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2845-40E9-4107-AED2-92D78FA0A846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Vælger værktøj og ressource herfra og danner ny ressource og har adgang til egen map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dsholder til dias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4C2B-D6F5-406C-A14A-ECF3D9C7F828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Workspace – Personlig / egen mappe - værktøjet der anvendes på ressourcen og Task/opgaven der arbejdes 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Knapper placers på samme måde over alt i workspace -  Funktionstaster tastatur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Dan / engelsk interface i workspace på personlige mappe på funktioner – det er vel et krav når det er et EU-projekt  og KU kra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dsholder til dias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98EB-FEC0-49C3-A847-CC811373E4B3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gen Disposition værktøj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Beskrivelse af del funktioner / knapper i forhold til værktøjerne og ressourcerne og task. Eksempel illustration - Vidoe sekvenser og værktøjet med bjør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Typer – video – skal man kunne vælge egne afspiller ? Tilknyttet videoafspiller? Eks British Libra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dsholder til dias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8718-4A0B-484A-9E4F-F8ACA24AC35A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gen Disposition værktøj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Beskrivelse af del funktioner / knapper i forhold til værktøjerne og ressourcerne og task. Eksempel illustration - Vidoe sekvenser og værktøjet med bjør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Typer – video – skal man kunne vælge egne afspiller ? Tilknyttet videoafspiller? Eks British Libra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dsholder til dias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8E7C-537E-45C4-B430-3256D9F34268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ksempler – Ebrary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Rex – login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Ajax funktio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dsholder til dias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7A21-8D88-463C-9038-EFF40B87F384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Øverste linie – WEB delen – skal kunne ses alle steder i workspace - beskrivelse af ressourcerne, hvad de dækker og hvad de k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2 – linie workspace  - Funktionsknapper - og tastaturknapper? –  ressourcerne er tilgængelige efter log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I værktøj er indeholdt – web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dsholder til dias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10EE-CE6C-44A8-BB1A-28512272951E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Workspace – Personlig / egen mappe - værktøjet der anvendes på ressourcen og Task/opgaven der arbejdes 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Knapper placers på samme måde over alt i workspace -  Funktionstaster tastatur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Dan / engelsk interface i workspace på personlige mappe på funktioner – det er vel et krav når det er et EU-projekt  og KU kra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dsholder til dias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0A39-0130-4B51-8602-569EBC8254E4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Afhængig af værktø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dsholder til dias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9A63-4DC1-43E2-96F3-512DA6B848AD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Workspace – Personlig / egen mappe - værktøjet der anvendes på ressourcen og Task/opgaven der arbejdes 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Knapper placers på samme måde over alt i workspace -  Funktionstaster tastaturet. DK-CLARIN</a:t>
            </a:r>
            <a:br>
              <a:rPr sz="1200"/>
            </a:b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Dan / engelsk interface i workspace på personlige mappe på funktioner – det er vel et krav når det er et EU-projekt  og KU kra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Mouseover – Hjælpefunktioner ( Beskrivelse af funktioner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dsholder til dias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8970-7110-48E9-A2B8-353FC36F1E73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Egen Disposition værktøj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Beskrivelse af del funktioner / knapper i forhold til værktøjerne og ressourcerne og task. Eksempel illustration - Vidoe sekvenser og værktøjet med bjør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alibri"/>
              </a:rPr>
              <a:t>Typer – video – skal man kunne vælge egne afspiller ? Tilknyttet videoafspiller? Eks British Libra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dsholder til dias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AE62-A31B-409D-A12C-8E47DFD11A82}" type="slidenum">
              <a:rPr b="0" lang="da-DK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130-7A43-485D-9CF3-A8548A47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D0C-ED4A-44B9-9094-0285B4F3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D007-0F98-4381-B17D-1E0831FF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9EA1-B0BF-4576-8A2A-67F5D3D8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AF7-67C5-45DE-BED7-10195B7F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979-0757-4590-B237-A73B5F68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954-93DB-40CF-B4C2-1D6EBC5A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C26-6D42-4838-92B8-4181167F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4B6-8195-41E3-BD84-C931E6F6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BBA-0AFE-4161-9B19-EAF5696F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210-12D5-4BE6-A3CC-0FA19416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3B1-E2AB-4BAD-973E-24944D60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509C-A62C-4484-819B-22907D6FD927}" type="datetime">
              <a:rPr b="0" lang="da-DK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7789-6496-4E44-A269-2B3C6B8A98D5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reativecommons.org/international/dk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Struktur - Arbejdsbænk /  Workbe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ktangel 5"/>
          <p:cNvSpPr/>
          <p:nvPr/>
        </p:nvSpPr>
        <p:spPr>
          <a:xfrm>
            <a:off x="857160" y="2500200"/>
            <a:ext cx="6480360" cy="90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ktangel 6"/>
          <p:cNvSpPr/>
          <p:nvPr/>
        </p:nvSpPr>
        <p:spPr>
          <a:xfrm>
            <a:off x="857160" y="3857760"/>
            <a:ext cx="6480360" cy="90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Res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ktangel 7"/>
          <p:cNvSpPr/>
          <p:nvPr/>
        </p:nvSpPr>
        <p:spPr>
          <a:xfrm>
            <a:off x="857160" y="5143680"/>
            <a:ext cx="3240000" cy="90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Ny res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ktangel 9"/>
          <p:cNvSpPr/>
          <p:nvPr/>
        </p:nvSpPr>
        <p:spPr>
          <a:xfrm>
            <a:off x="4286160" y="5143680"/>
            <a:ext cx="3240000" cy="90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Egen ma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dsholder til diasnumm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FA6D-F90C-43CE-BAF0-653EEC23DC8D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dsholder til sidefod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Vidoe / medieafspil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Regulering af billedkontrast og styrke (Regulat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Opmærkning af billeder og lyde i sekvens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Afspil billeder i sekvenser, med og uden lyd, slå lyd til og fra (Regulat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Gendan standard indstillin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mporter / eksporter / rediger / kopier fi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Formater – filtyper – metadata -værktøjer for billeder og ly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Rettigheder tilknyt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Kategorier – for videoer /medi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Mine bruger defineret videoer (Tags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andlinger for video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Egne afspiller / tilknytte afspilll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Filer i workspace / egen compu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Åbne, rediger og uploade  filer fra repositoriet – håndterer forskellige typer af ressourcer (fra tidligere perioder – hvordan?) (Omformaterer i værktøjer?) 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dsholder til dias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BA47-F795-4012-AF09-6D524DF2BA87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dsholder til sidefod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Metadata / ressource/ værktøj/ rettigheder = format -  gem filer med metadata og upload til repositoriet = ny ressource i repositori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Speech-scanner, Phonetic Focus, Acoustic disp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vad mangl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dsholder til dias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570A-898A-42F9-85D3-96965CC8DD4B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dsholder til sidefod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space - Can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ladsholder til indhold 24" descr=""/>
          <p:cNvPicPr/>
          <p:nvPr/>
        </p:nvPicPr>
        <p:blipFill>
          <a:blip r:embed="rId1"/>
          <a:stretch/>
        </p:blipFill>
        <p:spPr>
          <a:xfrm>
            <a:off x="1968480" y="2419200"/>
            <a:ext cx="4968720" cy="3657600"/>
          </a:xfrm>
          <a:prstGeom prst="rect">
            <a:avLst/>
          </a:prstGeom>
          <a:ln w="0">
            <a:noFill/>
          </a:ln>
        </p:spPr>
      </p:pic>
      <p:sp>
        <p:nvSpPr>
          <p:cNvPr id="173" name="Rektangel 17"/>
          <p:cNvSpPr/>
          <p:nvPr/>
        </p:nvSpPr>
        <p:spPr>
          <a:xfrm>
            <a:off x="428760" y="2357280"/>
            <a:ext cx="1357200" cy="3786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ktangel 20"/>
          <p:cNvSpPr/>
          <p:nvPr/>
        </p:nvSpPr>
        <p:spPr>
          <a:xfrm>
            <a:off x="6786720" y="2286000"/>
            <a:ext cx="1357200" cy="378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ktangel 26"/>
          <p:cNvSpPr/>
          <p:nvPr/>
        </p:nvSpPr>
        <p:spPr>
          <a:xfrm flipV="1" rot="10800000">
            <a:off x="5928840" y="2000160"/>
            <a:ext cx="87012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ktangel 32"/>
          <p:cNvSpPr/>
          <p:nvPr/>
        </p:nvSpPr>
        <p:spPr>
          <a:xfrm>
            <a:off x="1785960" y="2000160"/>
            <a:ext cx="9288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positori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ktangel 35"/>
          <p:cNvSpPr/>
          <p:nvPr/>
        </p:nvSpPr>
        <p:spPr>
          <a:xfrm>
            <a:off x="428760" y="2000160"/>
            <a:ext cx="61416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G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ktangel 16"/>
          <p:cNvSpPr/>
          <p:nvPr/>
        </p:nvSpPr>
        <p:spPr>
          <a:xfrm>
            <a:off x="678672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DAN/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ktangel 21"/>
          <p:cNvSpPr/>
          <p:nvPr/>
        </p:nvSpPr>
        <p:spPr>
          <a:xfrm>
            <a:off x="757224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Log a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ktangel 22"/>
          <p:cNvSpPr/>
          <p:nvPr/>
        </p:nvSpPr>
        <p:spPr>
          <a:xfrm>
            <a:off x="100008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ktangel 23"/>
          <p:cNvSpPr/>
          <p:nvPr/>
        </p:nvSpPr>
        <p:spPr>
          <a:xfrm>
            <a:off x="2714760" y="2000160"/>
            <a:ext cx="107136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ktangel 31"/>
          <p:cNvSpPr/>
          <p:nvPr/>
        </p:nvSpPr>
        <p:spPr>
          <a:xfrm flipV="1" rot="10800000">
            <a:off x="5214960" y="2000160"/>
            <a:ext cx="72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ktangel 40"/>
          <p:cNvSpPr/>
          <p:nvPr/>
        </p:nvSpPr>
        <p:spPr>
          <a:xfrm>
            <a:off x="3786120" y="2000160"/>
            <a:ext cx="72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s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ktangel 41"/>
          <p:cNvSpPr/>
          <p:nvPr/>
        </p:nvSpPr>
        <p:spPr>
          <a:xfrm flipV="1" rot="10800000">
            <a:off x="4500360" y="2000160"/>
            <a:ext cx="74268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dsholder til diasnumm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4FB9-16B4-4D21-A57C-391714D1DB53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dsholder til sidefod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ladsholder til indhold 4" descr=""/>
          <p:cNvPicPr/>
          <p:nvPr/>
        </p:nvPicPr>
        <p:blipFill>
          <a:blip r:embed="rId1"/>
          <a:stretch/>
        </p:blipFill>
        <p:spPr>
          <a:xfrm>
            <a:off x="841320" y="1981080"/>
            <a:ext cx="3846600" cy="4334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Uploade nye resoourcer til Repositori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Søge og browse i ressourcer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dsholder til dias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377E-9A25-4CB0-8E26-79BE7AE6A277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dsholder til sidefod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ladsholder til indhold 4" descr=""/>
          <p:cNvPicPr/>
          <p:nvPr/>
        </p:nvPicPr>
        <p:blipFill>
          <a:blip r:embed="rId1"/>
          <a:stretch/>
        </p:blipFill>
        <p:spPr>
          <a:xfrm>
            <a:off x="841320" y="1994040"/>
            <a:ext cx="3846600" cy="4125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Administration af DK- CLAR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dsholder til dias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1038-7D92-447C-B505-FBAE6FA841B9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dsholder til sidefod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Funktioner – Lineær / Panel – beskrivelse af – Excel ark med funktio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istorik -  Views -  Oversigt over hvad der er foregå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Tilføjet ressource, tid, ændret, filtype, format, størrelse, tags, uploade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istorik på søgninger, hvad der er søgt på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dsholder til dias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489C-0D98-47D1-B55F-0CE4F8774C9C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dsholder til sidefod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Repositoriet – Funktioner fra Workspace en del af ressourc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Web, Workspace, Repositoriet, Administration - understøttet af browser funktioner, hvilke  browser og hvilke funktioner? (Web, workspace) (eks. e-mail) Eks. Browser – Explorer, Opera, Mozilla Firefox (Andre i forhold til håndtering af bestemte værktøjer / formater / fil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Understøttelse af  Windows? Marc? Linoux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dsholder til dias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35AC-9B6A-463A-AC65-0F5093CA8F15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dsholder til sidefod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Formularer type a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Bruger oprettelse / konto / køb? / adgang t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reativecommons.org/international/dk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Dokument / ressource / værktøj / Metatdata -formater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dsholder til dias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FE5E-04A5-4C2E-9159-0410E5FEEB20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dsholder til sidefod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orkspace - Eksemp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957320" y="1600200"/>
            <a:ext cx="5229360" cy="4525920"/>
          </a:xfrm>
          <a:prstGeom prst="rect">
            <a:avLst/>
          </a:prstGeom>
          <a:ln w="0">
            <a:noFill/>
          </a:ln>
        </p:spPr>
      </p:pic>
      <p:sp>
        <p:nvSpPr>
          <p:cNvPr id="211" name="Pladsholder til dias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5DF9-68BF-4EF5-B088-BB71BFD433FB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dsholder til sidefod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15320"/>
          </a:xfrm>
          <a:prstGeom prst="rect">
            <a:avLst/>
          </a:prstGeom>
          <a:ln w="0">
            <a:noFill/>
          </a:ln>
        </p:spPr>
      </p:pic>
      <p:sp>
        <p:nvSpPr>
          <p:cNvPr id="216" name="Pladsholder til dias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A6D6-B9F1-424B-91B1-EBF37CAFDC9B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dsholder til sidefod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ktangel 5"/>
          <p:cNvSpPr/>
          <p:nvPr/>
        </p:nvSpPr>
        <p:spPr>
          <a:xfrm>
            <a:off x="857160" y="2500200"/>
            <a:ext cx="6480360" cy="90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ktangel 6"/>
          <p:cNvSpPr/>
          <p:nvPr/>
        </p:nvSpPr>
        <p:spPr>
          <a:xfrm>
            <a:off x="857160" y="3857760"/>
            <a:ext cx="6480360" cy="90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Res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ktangel 7"/>
          <p:cNvSpPr/>
          <p:nvPr/>
        </p:nvSpPr>
        <p:spPr>
          <a:xfrm>
            <a:off x="857160" y="5143680"/>
            <a:ext cx="3240000" cy="90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Egen ma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ktangel 9"/>
          <p:cNvSpPr/>
          <p:nvPr/>
        </p:nvSpPr>
        <p:spPr>
          <a:xfrm>
            <a:off x="4214880" y="5143680"/>
            <a:ext cx="3240000" cy="90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Ny res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padgående pil 8"/>
          <p:cNvSpPr/>
          <p:nvPr/>
        </p:nvSpPr>
        <p:spPr>
          <a:xfrm>
            <a:off x="4214880" y="3143160"/>
            <a:ext cx="484200" cy="90036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Nedadgående pil 10"/>
          <p:cNvSpPr/>
          <p:nvPr/>
        </p:nvSpPr>
        <p:spPr>
          <a:xfrm>
            <a:off x="3786120" y="3143160"/>
            <a:ext cx="484200" cy="9003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Nedadgående pil 11"/>
          <p:cNvSpPr/>
          <p:nvPr/>
        </p:nvSpPr>
        <p:spPr>
          <a:xfrm>
            <a:off x="5143680" y="4572000"/>
            <a:ext cx="483840" cy="90000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Højre-venstrepil 12"/>
          <p:cNvSpPr/>
          <p:nvPr/>
        </p:nvSpPr>
        <p:spPr>
          <a:xfrm>
            <a:off x="3714840" y="5357880"/>
            <a:ext cx="900000" cy="485640"/>
          </a:xfrm>
          <a:prstGeom prst="left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Nedadgående pil 13"/>
          <p:cNvSpPr/>
          <p:nvPr/>
        </p:nvSpPr>
        <p:spPr>
          <a:xfrm>
            <a:off x="2786040" y="3071880"/>
            <a:ext cx="484200" cy="277164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Nedadgående pil 14"/>
          <p:cNvSpPr/>
          <p:nvPr/>
        </p:nvSpPr>
        <p:spPr>
          <a:xfrm>
            <a:off x="6357960" y="3071880"/>
            <a:ext cx="484200" cy="277164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dsholder til diasnumm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68EC-4937-4BCB-9BCD-3E09579859A6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dsholder til sidefod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orkspace - Eksemp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957320" y="1600200"/>
            <a:ext cx="5229360" cy="4525920"/>
          </a:xfrm>
          <a:prstGeom prst="rect">
            <a:avLst/>
          </a:prstGeom>
          <a:ln w="0">
            <a:noFill/>
          </a:ln>
        </p:spPr>
      </p:pic>
      <p:sp>
        <p:nvSpPr>
          <p:cNvPr id="220" name="Pladsholder til dias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7EC0-76FE-421A-81DA-34F800C95F90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dsholder til sidefod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ktangel 15"/>
          <p:cNvSpPr/>
          <p:nvPr/>
        </p:nvSpPr>
        <p:spPr>
          <a:xfrm>
            <a:off x="500040" y="1714680"/>
            <a:ext cx="814392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4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ktangel 17"/>
          <p:cNvSpPr/>
          <p:nvPr/>
        </p:nvSpPr>
        <p:spPr>
          <a:xfrm>
            <a:off x="500040" y="2286000"/>
            <a:ext cx="1357200" cy="3786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ktangel 18"/>
          <p:cNvSpPr/>
          <p:nvPr/>
        </p:nvSpPr>
        <p:spPr>
          <a:xfrm>
            <a:off x="500040" y="2000160"/>
            <a:ext cx="814392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ktangel 20"/>
          <p:cNvSpPr/>
          <p:nvPr/>
        </p:nvSpPr>
        <p:spPr>
          <a:xfrm>
            <a:off x="7286760" y="2286000"/>
            <a:ext cx="1357200" cy="378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Web-funktioner og workspace funktio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ktangel 7"/>
          <p:cNvSpPr/>
          <p:nvPr/>
        </p:nvSpPr>
        <p:spPr>
          <a:xfrm flipV="1" rot="10800000">
            <a:off x="6071760" y="1784880"/>
            <a:ext cx="8701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ktangel 8"/>
          <p:cNvSpPr/>
          <p:nvPr/>
        </p:nvSpPr>
        <p:spPr>
          <a:xfrm>
            <a:off x="1857240" y="2000160"/>
            <a:ext cx="9288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positori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ktangel 9"/>
          <p:cNvSpPr/>
          <p:nvPr/>
        </p:nvSpPr>
        <p:spPr>
          <a:xfrm>
            <a:off x="500040" y="2000160"/>
            <a:ext cx="61452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G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ktangel 10"/>
          <p:cNvSpPr/>
          <p:nvPr/>
        </p:nvSpPr>
        <p:spPr>
          <a:xfrm>
            <a:off x="685800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DAN/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ktangel 11"/>
          <p:cNvSpPr/>
          <p:nvPr/>
        </p:nvSpPr>
        <p:spPr>
          <a:xfrm>
            <a:off x="764388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Log a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ktangel 12"/>
          <p:cNvSpPr/>
          <p:nvPr/>
        </p:nvSpPr>
        <p:spPr>
          <a:xfrm>
            <a:off x="107172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ktangel 13"/>
          <p:cNvSpPr/>
          <p:nvPr/>
        </p:nvSpPr>
        <p:spPr>
          <a:xfrm>
            <a:off x="2786040" y="2000160"/>
            <a:ext cx="107172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ktangel 14"/>
          <p:cNvSpPr/>
          <p:nvPr/>
        </p:nvSpPr>
        <p:spPr>
          <a:xfrm flipV="1" rot="10800000">
            <a:off x="5286240" y="2000160"/>
            <a:ext cx="72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ktangel 16"/>
          <p:cNvSpPr/>
          <p:nvPr/>
        </p:nvSpPr>
        <p:spPr>
          <a:xfrm>
            <a:off x="385776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s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ktangel 19"/>
          <p:cNvSpPr/>
          <p:nvPr/>
        </p:nvSpPr>
        <p:spPr>
          <a:xfrm flipV="1" rot="10800000">
            <a:off x="4572000" y="2000160"/>
            <a:ext cx="74304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ktangel 21"/>
          <p:cNvSpPr/>
          <p:nvPr/>
        </p:nvSpPr>
        <p:spPr>
          <a:xfrm>
            <a:off x="7715160" y="1785960"/>
            <a:ext cx="7984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Log p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ktangel 23"/>
          <p:cNvSpPr/>
          <p:nvPr/>
        </p:nvSpPr>
        <p:spPr>
          <a:xfrm>
            <a:off x="6929280" y="1785960"/>
            <a:ext cx="798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DAN/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ktangel 27"/>
          <p:cNvSpPr/>
          <p:nvPr/>
        </p:nvSpPr>
        <p:spPr>
          <a:xfrm flipV="1" rot="10800000">
            <a:off x="6000840" y="2000160"/>
            <a:ext cx="86976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ktangel 28"/>
          <p:cNvSpPr/>
          <p:nvPr/>
        </p:nvSpPr>
        <p:spPr>
          <a:xfrm flipV="1" rot="10800000">
            <a:off x="3071880" y="1784880"/>
            <a:ext cx="7984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ktangel 29"/>
          <p:cNvSpPr/>
          <p:nvPr/>
        </p:nvSpPr>
        <p:spPr>
          <a:xfrm>
            <a:off x="2286000" y="1785960"/>
            <a:ext cx="7984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DE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ktangel 30"/>
          <p:cNvSpPr/>
          <p:nvPr/>
        </p:nvSpPr>
        <p:spPr>
          <a:xfrm flipV="1" rot="10800000">
            <a:off x="4572000" y="1785960"/>
            <a:ext cx="74304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ktangel 31"/>
          <p:cNvSpPr/>
          <p:nvPr/>
        </p:nvSpPr>
        <p:spPr>
          <a:xfrm flipV="1" rot="10800000">
            <a:off x="3857400" y="1784880"/>
            <a:ext cx="726840" cy="220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s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ktangel 32"/>
          <p:cNvSpPr/>
          <p:nvPr/>
        </p:nvSpPr>
        <p:spPr>
          <a:xfrm flipV="1" rot="10800000">
            <a:off x="5286240" y="1784880"/>
            <a:ext cx="7984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Nyhe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ktangel 33"/>
          <p:cNvSpPr/>
          <p:nvPr/>
        </p:nvSpPr>
        <p:spPr>
          <a:xfrm rot="10800000">
            <a:off x="1500120" y="1785960"/>
            <a:ext cx="798480" cy="46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ktangel 34"/>
          <p:cNvSpPr/>
          <p:nvPr/>
        </p:nvSpPr>
        <p:spPr>
          <a:xfrm flipV="1" rot="10800000">
            <a:off x="1500120" y="1784880"/>
            <a:ext cx="798480" cy="204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Pr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ktangel 35"/>
          <p:cNvSpPr/>
          <p:nvPr/>
        </p:nvSpPr>
        <p:spPr>
          <a:xfrm flipV="1" rot="10800000">
            <a:off x="714240" y="1784880"/>
            <a:ext cx="7984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DK_CLA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dsholder til diasnumm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40FB-570D-4FCE-8EE7-76847220D378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dsholder til sidefod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nvas struktur  og eller Panel struktu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Canvas struktur – et objekt fylder skærmen og er aktive af gangen, værktøjer tilknytt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Lyd res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Billede res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Videores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Tekstres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Webservi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dsholder til dias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BB53-2D94-423E-9CA2-5A869C1EA7B8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dsholder til sidefod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space – Personlig map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ladsholder til indhold 24" descr=""/>
          <p:cNvPicPr/>
          <p:nvPr/>
        </p:nvPicPr>
        <p:blipFill>
          <a:blip r:embed="rId1"/>
          <a:stretch/>
        </p:blipFill>
        <p:spPr>
          <a:xfrm>
            <a:off x="1968480" y="2419200"/>
            <a:ext cx="496872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Rektangel 17"/>
          <p:cNvSpPr/>
          <p:nvPr/>
        </p:nvSpPr>
        <p:spPr>
          <a:xfrm>
            <a:off x="500040" y="2428920"/>
            <a:ext cx="1357200" cy="3786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ktangel 20"/>
          <p:cNvSpPr/>
          <p:nvPr/>
        </p:nvSpPr>
        <p:spPr>
          <a:xfrm>
            <a:off x="6786720" y="2286000"/>
            <a:ext cx="1357200" cy="378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ktangel 26"/>
          <p:cNvSpPr/>
          <p:nvPr/>
        </p:nvSpPr>
        <p:spPr>
          <a:xfrm flipV="1" rot="10800000">
            <a:off x="5928840" y="2000160"/>
            <a:ext cx="87012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ktangel 32"/>
          <p:cNvSpPr/>
          <p:nvPr/>
        </p:nvSpPr>
        <p:spPr>
          <a:xfrm>
            <a:off x="1785960" y="2000160"/>
            <a:ext cx="9288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positori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ktangel 35"/>
          <p:cNvSpPr/>
          <p:nvPr/>
        </p:nvSpPr>
        <p:spPr>
          <a:xfrm>
            <a:off x="428760" y="2000160"/>
            <a:ext cx="61416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G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ktangel 16"/>
          <p:cNvSpPr/>
          <p:nvPr/>
        </p:nvSpPr>
        <p:spPr>
          <a:xfrm>
            <a:off x="678672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DAN/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ktangel 21"/>
          <p:cNvSpPr/>
          <p:nvPr/>
        </p:nvSpPr>
        <p:spPr>
          <a:xfrm>
            <a:off x="757224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Log a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ktangel 22"/>
          <p:cNvSpPr/>
          <p:nvPr/>
        </p:nvSpPr>
        <p:spPr>
          <a:xfrm>
            <a:off x="100008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ktangel 23"/>
          <p:cNvSpPr/>
          <p:nvPr/>
        </p:nvSpPr>
        <p:spPr>
          <a:xfrm>
            <a:off x="2714760" y="2000160"/>
            <a:ext cx="107136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ktangel 31"/>
          <p:cNvSpPr/>
          <p:nvPr/>
        </p:nvSpPr>
        <p:spPr>
          <a:xfrm flipV="1" rot="10800000">
            <a:off x="5214960" y="2000160"/>
            <a:ext cx="72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ktangel 40"/>
          <p:cNvSpPr/>
          <p:nvPr/>
        </p:nvSpPr>
        <p:spPr>
          <a:xfrm>
            <a:off x="3786120" y="2000160"/>
            <a:ext cx="72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s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ktangel 41"/>
          <p:cNvSpPr/>
          <p:nvPr/>
        </p:nvSpPr>
        <p:spPr>
          <a:xfrm flipV="1" rot="10800000">
            <a:off x="4500360" y="2000160"/>
            <a:ext cx="74268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dsholder til diasnumm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4451-DEB6-4865-A04B-6143AD797CCC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dsholder til sidefod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orkspace - Pan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ladsholder til indhold 24" descr=""/>
          <p:cNvPicPr/>
          <p:nvPr/>
        </p:nvPicPr>
        <p:blipFill>
          <a:blip r:embed="rId1"/>
          <a:stretch/>
        </p:blipFill>
        <p:spPr>
          <a:xfrm>
            <a:off x="1968480" y="2419200"/>
            <a:ext cx="496872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Rektangel 5"/>
          <p:cNvSpPr/>
          <p:nvPr/>
        </p:nvSpPr>
        <p:spPr>
          <a:xfrm>
            <a:off x="500040" y="2214720"/>
            <a:ext cx="1357200" cy="378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Task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Hvad der sker i det ene panel påvirker  hvad der sker i det næste panel + p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ind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ktangel 6"/>
          <p:cNvSpPr/>
          <p:nvPr/>
        </p:nvSpPr>
        <p:spPr>
          <a:xfrm flipV="1" rot="10800000">
            <a:off x="5928840" y="2000160"/>
            <a:ext cx="87012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ktangel 7"/>
          <p:cNvSpPr/>
          <p:nvPr/>
        </p:nvSpPr>
        <p:spPr>
          <a:xfrm>
            <a:off x="1785960" y="2000160"/>
            <a:ext cx="9288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positori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ktangel 8"/>
          <p:cNvSpPr/>
          <p:nvPr/>
        </p:nvSpPr>
        <p:spPr>
          <a:xfrm>
            <a:off x="428760" y="2000160"/>
            <a:ext cx="61416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G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ktangel 9"/>
          <p:cNvSpPr/>
          <p:nvPr/>
        </p:nvSpPr>
        <p:spPr>
          <a:xfrm>
            <a:off x="678672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DAN/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ktangel 10"/>
          <p:cNvSpPr/>
          <p:nvPr/>
        </p:nvSpPr>
        <p:spPr>
          <a:xfrm>
            <a:off x="757224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Log  a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ktangel 11"/>
          <p:cNvSpPr/>
          <p:nvPr/>
        </p:nvSpPr>
        <p:spPr>
          <a:xfrm>
            <a:off x="100008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ktangel 12"/>
          <p:cNvSpPr/>
          <p:nvPr/>
        </p:nvSpPr>
        <p:spPr>
          <a:xfrm>
            <a:off x="2714760" y="2000160"/>
            <a:ext cx="107136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ktangel 13"/>
          <p:cNvSpPr/>
          <p:nvPr/>
        </p:nvSpPr>
        <p:spPr>
          <a:xfrm flipV="1" rot="10800000">
            <a:off x="5214960" y="2000160"/>
            <a:ext cx="72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ktangel 14"/>
          <p:cNvSpPr/>
          <p:nvPr/>
        </p:nvSpPr>
        <p:spPr>
          <a:xfrm>
            <a:off x="3786120" y="2000160"/>
            <a:ext cx="72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s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ktangel 15"/>
          <p:cNvSpPr/>
          <p:nvPr/>
        </p:nvSpPr>
        <p:spPr>
          <a:xfrm flipV="1" rot="10800000">
            <a:off x="4500360" y="2000160"/>
            <a:ext cx="74268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dsholder til diasnumm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CBC9-F40E-4A19-BD3F-29460B7DFFC6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dsholder til sidefod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space - Can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ladsholder til indhold 24" descr=""/>
          <p:cNvPicPr/>
          <p:nvPr/>
        </p:nvPicPr>
        <p:blipFill>
          <a:blip r:embed="rId1"/>
          <a:stretch/>
        </p:blipFill>
        <p:spPr>
          <a:xfrm>
            <a:off x="1968480" y="2419200"/>
            <a:ext cx="4968720" cy="3657600"/>
          </a:xfrm>
          <a:prstGeom prst="rect">
            <a:avLst/>
          </a:prstGeom>
          <a:ln w="0">
            <a:noFill/>
          </a:ln>
        </p:spPr>
      </p:pic>
      <p:sp>
        <p:nvSpPr>
          <p:cNvPr id="137" name="Rektangel 17"/>
          <p:cNvSpPr/>
          <p:nvPr/>
        </p:nvSpPr>
        <p:spPr>
          <a:xfrm>
            <a:off x="500040" y="2428920"/>
            <a:ext cx="1357200" cy="3786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ktangel 20"/>
          <p:cNvSpPr/>
          <p:nvPr/>
        </p:nvSpPr>
        <p:spPr>
          <a:xfrm>
            <a:off x="6786720" y="2286000"/>
            <a:ext cx="1357200" cy="378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Calibri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ktangel 26"/>
          <p:cNvSpPr/>
          <p:nvPr/>
        </p:nvSpPr>
        <p:spPr>
          <a:xfrm flipV="1" rot="10800000">
            <a:off x="5928840" y="2000160"/>
            <a:ext cx="87012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Histor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ktangel 32"/>
          <p:cNvSpPr/>
          <p:nvPr/>
        </p:nvSpPr>
        <p:spPr>
          <a:xfrm>
            <a:off x="1785960" y="2000160"/>
            <a:ext cx="9288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positori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ktangel 35"/>
          <p:cNvSpPr/>
          <p:nvPr/>
        </p:nvSpPr>
        <p:spPr>
          <a:xfrm>
            <a:off x="428760" y="2000160"/>
            <a:ext cx="61416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G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ktangel 16"/>
          <p:cNvSpPr/>
          <p:nvPr/>
        </p:nvSpPr>
        <p:spPr>
          <a:xfrm>
            <a:off x="678672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DAN/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ktangel 21"/>
          <p:cNvSpPr/>
          <p:nvPr/>
        </p:nvSpPr>
        <p:spPr>
          <a:xfrm>
            <a:off x="757224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Log a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ktangel 22"/>
          <p:cNvSpPr/>
          <p:nvPr/>
        </p:nvSpPr>
        <p:spPr>
          <a:xfrm>
            <a:off x="1000080" y="2000160"/>
            <a:ext cx="7984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Sø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ktangel 23"/>
          <p:cNvSpPr/>
          <p:nvPr/>
        </p:nvSpPr>
        <p:spPr>
          <a:xfrm>
            <a:off x="2714760" y="2000160"/>
            <a:ext cx="107136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Værktø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ktangel 31"/>
          <p:cNvSpPr/>
          <p:nvPr/>
        </p:nvSpPr>
        <p:spPr>
          <a:xfrm flipV="1" rot="10800000">
            <a:off x="5214960" y="2000160"/>
            <a:ext cx="72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ktangel 40"/>
          <p:cNvSpPr/>
          <p:nvPr/>
        </p:nvSpPr>
        <p:spPr>
          <a:xfrm>
            <a:off x="3786120" y="2000160"/>
            <a:ext cx="72720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Res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ktangel 41"/>
          <p:cNvSpPr/>
          <p:nvPr/>
        </p:nvSpPr>
        <p:spPr>
          <a:xfrm flipV="1" rot="10800000">
            <a:off x="4500360" y="2000160"/>
            <a:ext cx="742680" cy="21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Calibri"/>
              </a:rPr>
              <a:t>Form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dsholder til diasnumm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271F-AFD8-45CD-8AE6-2FDACCF07281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dsholder til sidefod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ladsholder til indhold 4" descr=""/>
          <p:cNvPicPr/>
          <p:nvPr/>
        </p:nvPicPr>
        <p:blipFill>
          <a:blip r:embed="rId1"/>
          <a:stretch/>
        </p:blipFill>
        <p:spPr>
          <a:xfrm>
            <a:off x="841320" y="1994040"/>
            <a:ext cx="3846600" cy="4125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Gemme på egen pc’er, personlige mappe / login/out til personlige mappe – Oprette sig som bruger / gæst og administrer sin egen ko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Rename  filer for eks. videosekvenser og de andre ressourcer, man arbejder med (ny ressour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Uploade til repositoriet ( Tilknytte metadat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Søge og browse i ressourcer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Timer – tidslinjer / kalend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dsholder til dias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0865-FCBD-4339-BC1B-7AFA0DFD8637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dsholder til sidefod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DK-CLARIN</a:t>
            </a:r>
            <a:br>
              <a:rPr sz="4400"/>
            </a:b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Ly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Lydstyr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Regulering af lydstyrke (Regulat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Opmærkning af lyde i sekvens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Afspil lyde i sekvenser, slå lyd til og fra (Regulat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Gendan standard indstillin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Importer / eksporter / rediger / kopier lydfi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Formater – filtyper – metadata -værktøjer for lyd tilknyt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Rettigheder tilknyt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Kategorier – for ly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Mine bruger defineret lyde (Tags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Handlinger for lyd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Egne højtaler / tilknytte højtal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Filer i workspace / egen compu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Åbne, rediger og uploade  filer fra repositori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</a:rPr>
              <a:t>Metadata / ressource/ værktøj/ rettigheder = format -  gem filer med metadata og upload til repositoriet = ny ressource i repositori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dsholder til dias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A190-35B7-48A1-9CCC-1FCC13E8D715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dsholder til sidefod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DKClarin (KM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07:36:54Z</dcterms:created>
  <dc:creator>kmiv</dc:creator>
  <dc:description/>
  <dc:language>en-US</dc:language>
  <cp:lastModifiedBy>kmiv</cp:lastModifiedBy>
  <dcterms:modified xsi:type="dcterms:W3CDTF">2009-07-09T13:02:49Z</dcterms:modified>
  <cp:revision>92</cp:revision>
  <dc:subject/>
  <dc:title>DK-CLARIN</dc:title>
</cp:coreProperties>
</file>