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794640" cy="99061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91">
                <a:moveTo>
                  <a:pt x="5" y="0"/>
                </a:moveTo>
                <a:arcTo wR="5" hR="5" stAng="16200000" swAng="-5400000"/>
                <a:lnTo>
                  <a:pt x="0" y="31486"/>
                </a:lnTo>
                <a:arcTo wR="5" hR="5" stAng="10800000" swAng="-5400000"/>
                <a:lnTo>
                  <a:pt x="21595" y="314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D677D-7B74-4538-8394-1F2877B62E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368D6-9570-4CDE-B8C8-0AD32D5988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548A-736D-4FFB-AD56-C86E679E6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E08CE-B6C3-4699-9B6A-2B2D548CD0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9BE7A-4BE8-4364-95E7-F2A1E72646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dsholder til diasnummer 3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C5A92-22FD-4942-89D3-98AB44B8C5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861C6-9220-4158-9426-5E9221EC5B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B37D4-F1D1-4AAD-BD7A-2CF291DD52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57388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09F9D514-7D5D-425D-85CC-0BB6811EAA38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3240" y="6694560"/>
            <a:ext cx="9151920" cy="144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5256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 flipH="1">
            <a:off x="3240" y="1171440"/>
            <a:ext cx="9151920" cy="180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880" y="2064960"/>
            <a:ext cx="6494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498F2DC9-2A65-4537-85EC-59A6132CE04C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rcRect l="0" t="0" r="47710" b="5853"/>
          <a:stretch/>
        </p:blipFill>
        <p:spPr>
          <a:xfrm>
            <a:off x="6718320" y="4097160"/>
            <a:ext cx="2425680" cy="27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3860640"/>
            <a:ext cx="6486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ene Offersgaard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Center for Sprogteknologi, Københavns Universitet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off@cst.dk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638680" y="1989000"/>
            <a:ext cx="3505320" cy="486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98508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WP 5.2</a:t>
            </a:r>
            <a:br>
              <a:rPr sz="2000"/>
            </a:b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Kortlægning af eksisterende resurcer/collection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Første indsamling af information om resurser/collections</a:t>
            </a: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418644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Indledende runde af informationindsaml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okus på DK-CLARIN-partner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orsøg på typeinddel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Eksisterende resurc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Basisoplysninger og kontaktperson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</a:rPr>
              <a:t>STOR TAK </a:t>
            </a: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or alle bidrag fra alle partner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Opsummering af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Typer og fordeling i forhold til typ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Copyright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Metadata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Målgrupp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Opdeling i 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179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Skrevet spr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2411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5.Tale/Au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Oval 15"/>
          <p:cNvSpPr/>
          <p:nvPr/>
        </p:nvSpPr>
        <p:spPr>
          <a:xfrm>
            <a:off x="4788000" y="1268280"/>
            <a:ext cx="201744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6.Multimod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694836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4.Billeder(obj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Oval 17"/>
          <p:cNvSpPr/>
          <p:nvPr/>
        </p:nvSpPr>
        <p:spPr>
          <a:xfrm>
            <a:off x="179280" y="2421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.Mono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539640" y="3284640"/>
            <a:ext cx="208764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2.Mult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826920" y="4221000"/>
            <a:ext cx="2016360" cy="1008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3.Ord-colle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20"/>
          <p:cNvSpPr/>
          <p:nvPr/>
        </p:nvSpPr>
        <p:spPr>
          <a:xfrm>
            <a:off x="2916360" y="3213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22"/>
          <p:cNvSpPr/>
          <p:nvPr/>
        </p:nvSpPr>
        <p:spPr>
          <a:xfrm>
            <a:off x="2556000" y="234936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Oval 23"/>
          <p:cNvSpPr/>
          <p:nvPr/>
        </p:nvSpPr>
        <p:spPr>
          <a:xfrm>
            <a:off x="4859280" y="2276640"/>
            <a:ext cx="208908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24"/>
          <p:cNvSpPr/>
          <p:nvPr/>
        </p:nvSpPr>
        <p:spPr>
          <a:xfrm>
            <a:off x="6300720" y="580536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7. And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25"/>
          <p:cNvSpPr/>
          <p:nvPr/>
        </p:nvSpPr>
        <p:spPr>
          <a:xfrm>
            <a:off x="5219640" y="3213000"/>
            <a:ext cx="208908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/m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Oval 26"/>
          <p:cNvSpPr/>
          <p:nvPr/>
        </p:nvSpPr>
        <p:spPr>
          <a:xfrm>
            <a:off x="7054920" y="2276640"/>
            <a:ext cx="190980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Billeddataba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1042920" y="1989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419640" y="198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Line 29"/>
          <p:cNvSpPr/>
          <p:nvPr/>
        </p:nvSpPr>
        <p:spPr>
          <a:xfrm>
            <a:off x="5796000" y="1989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Line 30"/>
          <p:cNvSpPr/>
          <p:nvPr/>
        </p:nvSpPr>
        <p:spPr>
          <a:xfrm>
            <a:off x="7786800" y="20001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799308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65aa5"/>
                </a:solidFill>
                <a:latin typeface="Verdana"/>
              </a:rPr>
              <a:t>Fordeling i forhold til typer -1 </a:t>
            </a:r>
            <a:endParaRPr b="0" lang="en-US" sz="24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440" y="1557000"/>
            <a:ext cx="6553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a-DK" sz="1600" spc="-1" strike="noStrike">
              <a:solidFill>
                <a:srgbClr val="6e6e6e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197000"/>
          <a:ext cx="7993080" cy="510372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  <a:gridCol w="640872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A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Beskrivel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o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er, tekster med håndskrifter/originaler(digitaliseringer), tekster med noter, med/uden annoter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o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samlinger, som er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lgængeliggjort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ha. et særligt interface, eller med særlige værktøjer tilknyttet f.eks. ADL eller korpus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lingvale tekstsamlinger/korpusser: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llelle tekster på to eller flere sprog. tekster med håndskrifter/originaler(digitaliseringer), tekster med noter, med/uden annoter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samlinger, som er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lgængeliggjort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ha. et særligt interface, eller med særlige værktøjer tilknytt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d-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fx ordbøger el. leksikalske ordsamlinger med lingvistisk anno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krevet tek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799308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65aa5"/>
                </a:solidFill>
                <a:latin typeface="Verdana"/>
              </a:rPr>
              <a:t>Fordeling i forhold til typer - 2</a:t>
            </a:r>
            <a:endParaRPr b="0" lang="en-US" sz="24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440" y="1557000"/>
            <a:ext cx="6553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a-DK" sz="1600" spc="-1" strike="noStrike">
              <a:solidFill>
                <a:srgbClr val="6e6e6e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413000"/>
          <a:ext cx="8104320" cy="4329000"/>
        </p:xfrm>
        <a:graphic>
          <a:graphicData uri="http://schemas.openxmlformats.org/drawingml/2006/table">
            <a:tbl>
              <a:tblPr/>
              <a:tblGrid>
                <a:gridCol w="898560"/>
                <a:gridCol w="897120"/>
                <a:gridCol w="630864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A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Beskrivel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lled-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fx databaser med billeder og tek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dio-collections: med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dio-collections: uden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ransskription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type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, med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den 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, med  transskriptioner og annotatio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, uden transskription eller annotatio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type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apporterede 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179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Skrevet spr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2411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5.Tale/Au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788000" y="1268280"/>
            <a:ext cx="201744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6.Multimod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694836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4.Billeder(obj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214200" y="2357280"/>
            <a:ext cx="2268720" cy="927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.Mono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1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00040" y="3214800"/>
            <a:ext cx="2127240" cy="1006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2.Multi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4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714240" y="4143240"/>
            <a:ext cx="2129040" cy="10861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3.Ord-colle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7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2916360" y="3213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&gt;3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Oval 22"/>
          <p:cNvSpPr/>
          <p:nvPr/>
        </p:nvSpPr>
        <p:spPr>
          <a:xfrm>
            <a:off x="2556000" y="2349360"/>
            <a:ext cx="208908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Oval 23"/>
          <p:cNvSpPr/>
          <p:nvPr/>
        </p:nvSpPr>
        <p:spPr>
          <a:xfrm>
            <a:off x="4859280" y="2276640"/>
            <a:ext cx="2089080" cy="936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6300720" y="5805360"/>
            <a:ext cx="2017800" cy="720720"/>
          </a:xfrm>
          <a:prstGeom prst="ellipse">
            <a:avLst/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7. And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Oval 25"/>
          <p:cNvSpPr/>
          <p:nvPr/>
        </p:nvSpPr>
        <p:spPr>
          <a:xfrm>
            <a:off x="5219640" y="3213000"/>
            <a:ext cx="208908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/m anno. &gt;1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26"/>
          <p:cNvSpPr/>
          <p:nvPr/>
        </p:nvSpPr>
        <p:spPr>
          <a:xfrm>
            <a:off x="7054920" y="2276640"/>
            <a:ext cx="190980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Billeddataba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(2)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1042920" y="1989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3419640" y="198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796000" y="1989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7786800" y="20001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42960" y="5429160"/>
            <a:ext cx="6858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ækker de rapporterede typer hele CLARINS verde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t antager vi indtil videre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Copyright – opsummering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28440" y="1557360"/>
            <a:ext cx="65530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Copyright(fra jeres informationer):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or alle (6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or alle, men kan kun se uddrag af tekster, eller uddrag af oplysninger (2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Til ikke-kommercielle formål (5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Til forskningsformål (9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Copyright hos 3. part (1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Skal registrere sig (5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Skal udfylde erklæring om fortrolighed (1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Licens (1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Til intern brug (2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Uafklaret (7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8440" y="78552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8800" y="1557360"/>
            <a:ext cx="750096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Forskellige angivelser ~ forskellig anvendelse af data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XML er næsten et “fællestræk” :-)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Egne format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Tilpasning af standarder til specifik brug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Standarder: nogle nævnt: TEI, CES, IPA, MATE/GROME-Poesio, mv.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Det er nok ikke realistisk at have en fælles metadatabeskrivelse for alle collections/resurser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Vigtigt at opnå </a:t>
            </a: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en fælles metadatabeskrivele for hver type</a:t>
            </a:r>
            <a:r>
              <a:rPr b="0" lang="en-GB" sz="1800" spc="-1" strike="noStrike">
                <a:solidFill>
                  <a:srgbClr val="6e6e6e"/>
                </a:solidFill>
                <a:latin typeface="Verdana"/>
              </a:rPr>
              <a:t> af collection/resurs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Begyndelsen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285920"/>
            <a:ext cx="642924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TAK for jeres feedback i denne første runde af indsamling af informatio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Kun lige starten på at finde ud af hvad CLARIN kan rumm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Der kommer mange flere spørgsmål og debatter…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EM</cp:lastModifiedBy>
  <dcterms:modified xsi:type="dcterms:W3CDTF">2008-06-08T14:45:45Z</dcterms:modified>
  <cp:revision>51</cp:revision>
  <dc:subject/>
  <dc:title>Lene Offersgaard, Bente Maegaard  Center for Sprogteknologi, Københavns Universitet loff@cst.dk, bente@cst.dk</dc:title>
</cp:coreProperties>
</file>