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794640" cy="99061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91">
                <a:moveTo>
                  <a:pt x="5" y="0"/>
                </a:moveTo>
                <a:arcTo wR="5" hR="5" stAng="16200000" swAng="-5400000"/>
                <a:lnTo>
                  <a:pt x="0" y="31486"/>
                </a:lnTo>
                <a:arcTo wR="5" hR="5" stAng="10800000" swAng="-5400000"/>
                <a:lnTo>
                  <a:pt x="21595" y="314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7DAA5-B0A3-4B0E-8B05-0FFDF71F9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7AF6-92C2-497A-924A-A41E175992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B462-CB53-4693-B0F4-5DAAAE7003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61ED1-1CD5-4F71-81FF-E377DA4349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98B15-F626-4A2A-BAD8-5051A6B53F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73095-9EEB-478F-A6A4-D2BB045CE3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116A1-074A-46FC-9366-C713C0A85D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57388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E6DBE71A-D175-45ED-996F-7238B7D66D52}" type="slidenum">
              <a:rPr b="0" lang="en-US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3240" y="6694560"/>
            <a:ext cx="9151920" cy="144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5256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 flipH="1">
            <a:off x="3240" y="1171440"/>
            <a:ext cx="9151920" cy="180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880" y="2064960"/>
            <a:ext cx="6494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29B05237-2E2E-4FFF-86EF-C198052FCFA1}" type="slidenum">
              <a:rPr b="0" lang="en-US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192.38.108.139/SDMT/SMV/php/smtdemo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rcRect l="0" t="0" r="47710" b="5853"/>
          <a:stretch/>
        </p:blipFill>
        <p:spPr>
          <a:xfrm>
            <a:off x="6718320" y="4097160"/>
            <a:ext cx="2425680" cy="27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3860640"/>
            <a:ext cx="6486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ene Offersgaard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Center for Sprogteknologi, Københavns Universitet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off@cst.dk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638680" y="1989000"/>
            <a:ext cx="3505320" cy="486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98508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WP 5.2</a:t>
            </a:r>
            <a:br>
              <a:rPr sz="2000"/>
            </a:b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Kortlægning af eksisterende resurcer/collection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447480"/>
            <a:ext cx="7993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Første indsamling af information om resurser/collections</a:t>
            </a: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8440" y="1557000"/>
            <a:ext cx="655308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Indledende runde af informationindsaml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Fokus på DK-CLARIN-partner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Forsøg på typeinddel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Eksisterende res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Basisoplysninger og kontaktperson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Tak </a:t>
            </a: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for alle bidrag fra alle partner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Opsummering af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yper og fordeling i forhold til typ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Copyrigh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ålgrupper og brugertyp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Næste skrid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Opdeling i 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Skrevet spr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41128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5.Tale/Aud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1268280"/>
            <a:ext cx="201744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6.Multimod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126828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4.Billeder(obj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421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1.Mono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84640"/>
            <a:ext cx="208764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2.Multlingval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ekstsamling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221000"/>
            <a:ext cx="2016360" cy="1008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3.Ord-collec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321300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556000" y="2349360"/>
            <a:ext cx="2089080" cy="863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Audi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2276640"/>
            <a:ext cx="208908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.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5805360"/>
            <a:ext cx="2017800" cy="720720"/>
          </a:xfrm>
          <a:prstGeom prst="ellipse">
            <a:avLst/>
          </a:prstGeom>
          <a:solidFill>
            <a:srgbClr val="00b8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7. And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3213000"/>
            <a:ext cx="2089080" cy="936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ultimoda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m. transskri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u/m an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2276640"/>
            <a:ext cx="1909800" cy="936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Billeddataba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989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198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989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885080" y="1989000"/>
            <a:ext cx="71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691200"/>
            <a:ext cx="79930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5aa5"/>
                </a:solidFill>
                <a:latin typeface="Verdana"/>
              </a:rPr>
              <a:t>Fordeling i forhold til typer</a:t>
            </a:r>
            <a:endParaRPr b="0" lang="en-US" sz="24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440" y="1557000"/>
            <a:ext cx="6553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197000"/>
          <a:ext cx="7993080" cy="512136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  <a:gridCol w="640872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A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Beskrivel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o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er, tekster med håndskrifter/originaler(digitaliseringer), tekster med noter, med/uden annoter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no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samlinger, som er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lgængeliggjort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ha. et særligt interface, eller med særlige værktøjer tilknyttet f.eks. ADL eller korpus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lingvale tekstsamlinger/korpusser: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arallelle tekster på to eller flere sprog. tekster med håndskrifter/originaler(digitaliseringer), tekster med noter, med/uden annoterin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lingvale tekstsamlinger/korpusser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: tekstsamlinger, som er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lgængeliggjort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ha. et særligt interface, eller med særlige værktøjer tilknytt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d-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fx ordbøger el. leksikalske ordsamlinger med lingvistisk anno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skrevet tek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691200"/>
            <a:ext cx="799308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5aa5"/>
                </a:solidFill>
                <a:latin typeface="Verdana"/>
              </a:rPr>
              <a:t>Fordeling i forhold til typer</a:t>
            </a:r>
            <a:endParaRPr b="0" lang="en-US" sz="24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440" y="1557000"/>
            <a:ext cx="6553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413000"/>
          <a:ext cx="7848720" cy="4336920"/>
        </p:xfrm>
        <a:graphic>
          <a:graphicData uri="http://schemas.openxmlformats.org/drawingml/2006/table">
            <a:tbl>
              <a:tblPr/>
              <a:tblGrid>
                <a:gridCol w="870120"/>
                <a:gridCol w="868320"/>
                <a:gridCol w="611028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A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365aa5"/>
                          </a:solidFill>
                          <a:latin typeface="Verdana"/>
                          <a:ea typeface="Times New Roman"/>
                        </a:rPr>
                        <a:t>Beskrivel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lled-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fx databaser med billeder og tek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dio-collections: med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dio-collections: uden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transskription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type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, med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uden transsk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, med  transskriptioner og annotatio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ultimodale collections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uden transskription eller annotation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type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a-DK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d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365aa5"/>
                </a:solidFill>
                <a:latin typeface="Verdana"/>
              </a:rPr>
              <a:t>Tilpasning af SMT-systeme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85560"/>
            <a:ext cx="63612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</a:rPr>
              <a:t>SMT-systemet lige nu: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Standalone-applikation, kører på linux-server,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Demo: web-adga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”</a:t>
            </a: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Flad” tekst håndtering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Kan køre med forskellige oversættelsesmodeller: nu ”manualer”,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Systemet kan blive bedre med mere domæneafgrænsede data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</a:rPr>
              <a:t>For at opnå integration med workflow: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Input til SMT-systemet og fra SMT-systemet kan leveres i Tag-editor-format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Der trænes oversættelsesmodeller for de domæner hvor man ønsker at anvende SMT-systemet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65534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Opgaver, bl.a.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5760" y="1341000"/>
            <a:ext cx="64389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astlæggelse af domæne         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Levering af TM til træning – Inter-Se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ræning af oversættelsesmodel – C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amarbejdsaftal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astlæggelse af testscenari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onvertering til/fra TagEditor-format – C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rav til web-applikation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Implementering af web-applikation – C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rav til opdatering af oversættelsesmod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Opdateringfacilitet til model implementeres - C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unktionel te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ksperimenter med match%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est af oversættelseskvalite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ilpasning til drif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-284040">
              <a:lnSpc>
                <a:spcPct val="100000"/>
              </a:lnSpc>
              <a:spcBef>
                <a:spcPts val="349"/>
              </a:spcBef>
              <a:buClr>
                <a:srgbClr val="6e6e6e"/>
              </a:buClr>
              <a:buFont typeface="Verdana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amlet tes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Verdana"/>
              </a:rPr>
              <a:t>Center for Sprogteknologi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748440"/>
            <a:ext cx="59626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Eksempler på oversættelser og demo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632720" cy="48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192.38.108.139/SDMT/SMV/php/smtdemo.php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 SMV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Engelsk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Enter the emergency number, then press the call key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e wireless device described in this guide is approved for use on the EGSM 850, 900, 1800 and 1900 networks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Automatisk oversættelse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Indtast alarmnummeret, og tryk derefter på tasten </a:t>
            </a:r>
            <a:r>
              <a:rPr b="0" lang="en-US" sz="1600" spc="-1" strike="noStrike" u="sng">
                <a:solidFill>
                  <a:srgbClr val="6e6e6e"/>
                </a:solidFill>
                <a:uFillTx/>
                <a:latin typeface="Verdana"/>
              </a:rPr>
              <a:t>opkald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Den trådløse enhed, der beskrives i denne brugervejledning, er godkendt til brug i egsm 850, 900-, 1800 og 1900-netværk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Efterredigeret tekst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Indtast alarmnummeret, og tryk derefter på tasten </a:t>
            </a:r>
            <a:r>
              <a:rPr b="0" lang="da-DK" sz="1600" spc="-1" strike="noStrike" u="sng">
                <a:solidFill>
                  <a:srgbClr val="6e6e6e"/>
                </a:solidFill>
                <a:uFillTx/>
                <a:latin typeface="Verdana"/>
              </a:rPr>
              <a:t>Ring op</a:t>
            </a: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n trådløse enhed, der beskrives i denne brugervejledning, er godkendt til brug i EGSM 850-, 900-, 1800- og 1900-netværk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e Offersgaard</cp:lastModifiedBy>
  <dcterms:modified xsi:type="dcterms:W3CDTF">2008-06-06T11:31:49Z</dcterms:modified>
  <cp:revision>41</cp:revision>
  <dc:subject/>
  <dc:title>Lene Offersgaard, Bente Maegaard  Center for Sprogteknologi, Københavns Universitet loff@cst.dk, bente@cst.dk</dc:title>
</cp:coreProperties>
</file>