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794640" cy="9906120"/>
          </a:xfrm>
          <a:custGeom>
            <a:avLst/>
            <a:gdLst>
              <a:gd name="textAreaLeft" fmla="*/ 360 w 6794640"/>
              <a:gd name="textAreaRight" fmla="*/ 6794280 w 67946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91">
                <a:moveTo>
                  <a:pt x="5" y="0"/>
                </a:moveTo>
                <a:arcTo wR="5" hR="5" stAng="16200000" swAng="-5400000"/>
                <a:lnTo>
                  <a:pt x="0" y="31486"/>
                </a:lnTo>
                <a:arcTo wR="5" hR="5" stAng="10800000" swAng="-5400000"/>
                <a:lnTo>
                  <a:pt x="21595" y="3149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872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120" y="4704840"/>
            <a:ext cx="497988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9408960"/>
            <a:ext cx="2943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4948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158D6-A70D-4688-9CEA-C04C84D3D5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B54F9-9993-437A-AA4E-90ED45E06A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497988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dsholder til diasnummer 3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93931-4253-4F5C-8DD4-A6212C5D5A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A4E69-3CF5-43C3-AE27-D56184406E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44730-9726-41AB-803E-FF7E25CA55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592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8928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56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592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8928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42920" y="475920"/>
            <a:ext cx="588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8928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4256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8928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920" y="475920"/>
            <a:ext cx="588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573880"/>
            <a:ext cx="9144000" cy="1284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rcRect l="0" t="0" r="20377" b="0"/>
          <a:stretch/>
        </p:blipFill>
        <p:spPr>
          <a:xfrm>
            <a:off x="0" y="0"/>
            <a:ext cx="9144000" cy="262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3"/>
          <p:cNvSpPr/>
          <p:nvPr/>
        </p:nvSpPr>
        <p:spPr>
          <a:xfrm>
            <a:off x="1042920" y="6343560"/>
            <a:ext cx="7186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6e6e6e"/>
                </a:solidFill>
                <a:latin typeface="Verdana"/>
              </a:rPr>
              <a:t>Dias </a:t>
            </a:r>
            <a:fld id="{DA41F944-FA63-4E64-9384-8C1E4C4284C8}" type="slidenum">
              <a:rPr b="0" lang="en-GB" sz="900" spc="-1" strike="noStrike">
                <a:solidFill>
                  <a:srgbClr val="6e6e6e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4"/>
          <p:cNvSpPr/>
          <p:nvPr/>
        </p:nvSpPr>
        <p:spPr>
          <a:xfrm flipH="1">
            <a:off x="3240" y="6694560"/>
            <a:ext cx="9151920" cy="1440"/>
          </a:xfrm>
          <a:prstGeom prst="line">
            <a:avLst/>
          </a:prstGeom>
          <a:ln w="9360">
            <a:solidFill>
              <a:srgbClr val="36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555640" y="-3240"/>
            <a:ext cx="655164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52560"/>
            <a:ext cx="9144000" cy="128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rcRect l="0" t="0" r="20377" b="0"/>
          <a:stretch/>
        </p:blipFill>
        <p:spPr>
          <a:xfrm>
            <a:off x="0" y="0"/>
            <a:ext cx="9144000" cy="262080"/>
          </a:xfrm>
          <a:prstGeom prst="rect">
            <a:avLst/>
          </a:prstGeom>
          <a:ln w="0">
            <a:noFill/>
          </a:ln>
        </p:spPr>
      </p:pic>
      <p:sp>
        <p:nvSpPr>
          <p:cNvPr id="45" name="Line 3"/>
          <p:cNvSpPr/>
          <p:nvPr/>
        </p:nvSpPr>
        <p:spPr>
          <a:xfrm flipH="1">
            <a:off x="3240" y="1171440"/>
            <a:ext cx="9151920" cy="1800"/>
          </a:xfrm>
          <a:prstGeom prst="line">
            <a:avLst/>
          </a:prstGeom>
          <a:ln w="9360">
            <a:solidFill>
              <a:srgbClr val="36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28880" y="2064960"/>
            <a:ext cx="64944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042920" y="6343560"/>
            <a:ext cx="7186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6e6e6e"/>
                </a:solidFill>
                <a:latin typeface="Verdana"/>
              </a:rPr>
              <a:t>Dias </a:t>
            </a:r>
            <a:fld id="{01F8BF66-F00D-4C09-8A41-DF51C1F2E06E}" type="slidenum">
              <a:rPr b="0" lang="en-GB" sz="900" spc="-1" strike="noStrike">
                <a:solidFill>
                  <a:srgbClr val="6e6e6e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2"/>
          </p:nvPr>
        </p:nvSpPr>
        <p:spPr>
          <a:xfrm>
            <a:off x="2555640" y="-3240"/>
            <a:ext cx="655164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ei-c.org/release/doc/tei-p5-doc/html/HD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rcRect l="0" t="0" r="47710" b="5853"/>
          <a:stretch/>
        </p:blipFill>
        <p:spPr>
          <a:xfrm>
            <a:off x="6718320" y="4097160"/>
            <a:ext cx="2425680" cy="2760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6000" y="3860640"/>
            <a:ext cx="6486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Lene Offersgaard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Center for Sprogteknologi, Københavns Universitet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loff@cst.dk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5638680" y="1989000"/>
            <a:ext cx="3505320" cy="4869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15640" y="2133720"/>
            <a:ext cx="69850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DK-CLARIN status WP 5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2000" spc="-1" strike="noStrike">
                <a:solidFill>
                  <a:srgbClr val="365aa5"/>
                </a:solidFill>
                <a:latin typeface="Verdana"/>
              </a:rPr>
              <a:t>Metadata for tekstenheder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rom the TEI header description (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ei-c.org/release/doc/tei-p5-doc/html/HD.html</a:t>
            </a: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) we have that “the &lt;teiHeader&gt; element has four principal components: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ileDesc (file description) contains a full bibliographic description of an electronic file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encodingDesc (encoding description) documents the relationship between an electronic text and the source or sources from which it was derived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profileDesc (text-profile description) provides a detailed description of non-bibliographic aspects of a text, specifically the languages and sublanguages used, the situation in which it was produced, the participants and their setting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revisionDesc (revision description) summarizes the revision history for a file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Of these, only the &lt;fileDesc&gt; element is required in all TEI headers; the others are optional.”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65aa5"/>
                </a:solidFill>
                <a:latin typeface="Verdana"/>
              </a:rPr>
              <a:t>Possible architecture of the clarin.dk portal.</a:t>
            </a:r>
            <a:endParaRPr b="0" lang="en-US" sz="18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84320" y="1400040"/>
            <a:ext cx="69739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27416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365aa5"/>
                </a:solidFill>
                <a:latin typeface="Verdana"/>
              </a:rPr>
              <a:t>Possible overall architecture of the clarin.dk site, with the back-end aggregator systems shown.</a:t>
            </a:r>
            <a:r>
              <a:rPr b="0" lang="en-US" sz="1800" spc="-1" strike="noStrike">
                <a:solidFill>
                  <a:srgbClr val="365aa5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365aa5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7436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2000" spc="-1" strike="noStrike">
                <a:solidFill>
                  <a:srgbClr val="365aa5"/>
                </a:solidFill>
                <a:latin typeface="Verdana"/>
              </a:rPr>
              <a:t>Ressourcetyper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Vi arbejder med følgende ressourcetyper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Basisressourc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Annoteringsressourc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Værktøjsressourc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Services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Rapporterede typer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79280" y="126828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Skrevet spro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2411280" y="126828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5.Tale/Aud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4788000" y="1268280"/>
            <a:ext cx="201744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6.Multimod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6948360" y="126828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4.Billeder(obj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214200" y="2357280"/>
            <a:ext cx="2268720" cy="927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1.Monolingva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Tekstsamling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11st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500040" y="3214800"/>
            <a:ext cx="2127240" cy="1006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2.Multilingva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Tekstsamling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4st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Oval 19"/>
          <p:cNvSpPr/>
          <p:nvPr/>
        </p:nvSpPr>
        <p:spPr>
          <a:xfrm>
            <a:off x="714240" y="4143240"/>
            <a:ext cx="2129040" cy="10861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3.Ord-collec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7st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20"/>
          <p:cNvSpPr/>
          <p:nvPr/>
        </p:nvSpPr>
        <p:spPr>
          <a:xfrm>
            <a:off x="2916360" y="3213000"/>
            <a:ext cx="2089080" cy="863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Aud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&gt;3st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2556000" y="2349360"/>
            <a:ext cx="2089080" cy="863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Aud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Oval 23"/>
          <p:cNvSpPr/>
          <p:nvPr/>
        </p:nvSpPr>
        <p:spPr>
          <a:xfrm>
            <a:off x="4859280" y="2276640"/>
            <a:ext cx="2089080" cy="93636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ultimoda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. an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24"/>
          <p:cNvSpPr/>
          <p:nvPr/>
        </p:nvSpPr>
        <p:spPr>
          <a:xfrm>
            <a:off x="6300720" y="5805360"/>
            <a:ext cx="2017800" cy="720720"/>
          </a:xfrm>
          <a:prstGeom prst="ellipse">
            <a:avLst/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7. And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Oval 25"/>
          <p:cNvSpPr/>
          <p:nvPr/>
        </p:nvSpPr>
        <p:spPr>
          <a:xfrm>
            <a:off x="5219640" y="3213000"/>
            <a:ext cx="2089080" cy="936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ultimoda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/m anno. &gt;1st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Oval 26"/>
          <p:cNvSpPr/>
          <p:nvPr/>
        </p:nvSpPr>
        <p:spPr>
          <a:xfrm>
            <a:off x="7054920" y="2276640"/>
            <a:ext cx="1909800" cy="936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Billeddatabas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1(2)st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1042920" y="1989000"/>
            <a:ext cx="144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3419640" y="1989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Line 29"/>
          <p:cNvSpPr/>
          <p:nvPr/>
        </p:nvSpPr>
        <p:spPr>
          <a:xfrm>
            <a:off x="5796000" y="1989000"/>
            <a:ext cx="71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Line 30"/>
          <p:cNvSpPr/>
          <p:nvPr/>
        </p:nvSpPr>
        <p:spPr>
          <a:xfrm>
            <a:off x="7786800" y="20001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42960" y="5429160"/>
            <a:ext cx="6858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Dækker de rapporterede typer hele CLARINS verde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Det antager vi indtil videre…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2000" spc="-1" strike="noStrike">
                <a:solidFill>
                  <a:srgbClr val="365aa5"/>
                </a:solidFill>
                <a:latin typeface="Verdana"/>
              </a:rPr>
              <a:t>Metadata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720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e6e6e"/>
                </a:solidFill>
                <a:latin typeface="Verdana"/>
              </a:rPr>
              <a:t>Kortlægning blandt partenere i dk-clarin:</a:t>
            </a:r>
            <a:br>
              <a:rPr sz="1800"/>
            </a:br>
            <a:r>
              <a:rPr b="1" lang="en-US" sz="1800" spc="-1" strike="noStrike">
                <a:solidFill>
                  <a:srgbClr val="6e6e6e"/>
                </a:solidFill>
                <a:latin typeface="Verdana"/>
              </a:rPr>
              <a:t>http://cst.dk/dk-clarin/?q=ressourceoversigt_juni2008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e6e6e"/>
                </a:solidFill>
                <a:latin typeface="Verdana"/>
              </a:rPr>
              <a:t>EU-clarin:</a:t>
            </a:r>
            <a:br>
              <a:rPr sz="1800"/>
            </a:br>
            <a:r>
              <a:rPr b="1" lang="en-US" sz="1800" spc="-1" strike="noStrike">
                <a:solidFill>
                  <a:srgbClr val="6e6e6e"/>
                </a:solidFill>
                <a:latin typeface="Verdana"/>
              </a:rPr>
              <a:t>http://www.clarin.eu/view_resources (to view the submissions)</a:t>
            </a:r>
            <a:br>
              <a:rPr sz="1800"/>
            </a:br>
            <a:r>
              <a:rPr b="1" lang="en-US" sz="1800" spc="-1" strike="noStrike">
                <a:solidFill>
                  <a:srgbClr val="6e6e6e"/>
                </a:solidFill>
                <a:latin typeface="Verdana"/>
              </a:rPr>
              <a:t>http://www.clarin.eu/node/add/resource (to add one yourself) 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9640" y="217080"/>
            <a:ext cx="7993080" cy="9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2000" spc="-1" strike="noStrike">
                <a:solidFill>
                  <a:srgbClr val="365aa5"/>
                </a:solidFill>
                <a:latin typeface="Verdana"/>
              </a:rPr>
              <a:t>EU-CLARINs metadata forslag</a:t>
            </a:r>
            <a:r>
              <a:rPr b="0" lang="da-DK" sz="2000" spc="-1" strike="noStrike" u="sng">
                <a:solidFill>
                  <a:srgbClr val="ccccff"/>
                </a:solidFill>
                <a:uFillTx/>
                <a:latin typeface="Verdana"/>
                <a:hlinkClick r:id="rId1" action="ppaction://hlinksldjump"/>
              </a:rPr>
              <a:t>[1]</a:t>
            </a:r>
            <a:r>
              <a:rPr b="1" lang="da-DK" sz="2000" spc="-1" strike="noStrike">
                <a:solidFill>
                  <a:srgbClr val="365aa5"/>
                </a:solidFill>
                <a:latin typeface="Verdana"/>
              </a:rPr>
              <a:t> indeholder følgende fælles metadata, med kommentarer om der er en klar parallel til DC Element set: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675560" cy="428328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600" spc="-1" strike="noStrike" u="sng">
                <a:solidFill>
                  <a:srgbClr val="6e6e6e"/>
                </a:solidFill>
                <a:uFillTx/>
                <a:latin typeface="Verdana"/>
              </a:rPr>
              <a:t>ResourceType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Ligner DC element Typ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Name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Ligner DC element Title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 u="sng">
                <a:solidFill>
                  <a:srgbClr val="6e6e6e"/>
                </a:solidFill>
                <a:uFillTx/>
                <a:latin typeface="Verdana"/>
              </a:rPr>
              <a:t>Language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DC elemen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Description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DC elemen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 u="sng">
                <a:solidFill>
                  <a:srgbClr val="6e6e6e"/>
                </a:solidFill>
                <a:uFillTx/>
                <a:latin typeface="Verdana"/>
              </a:rPr>
              <a:t>Country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Institute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Ligner DC element Creato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Creator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DC elemen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600" spc="-1" strike="noStrike" u="sng">
                <a:solidFill>
                  <a:srgbClr val="6e6e6e"/>
                </a:solidFill>
                <a:uFillTx/>
                <a:latin typeface="Verdana"/>
              </a:rPr>
              <a:t>Year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Ligner DC element Date, men Date bruges 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eksplicit under flere af de enkelte grupper af data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Format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DC elemen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MetadataLink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ReferenceLink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Ligner DC element Identifi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1600"/>
            </a:br>
            <a:r>
              <a:rPr b="0" lang="da-DK" sz="16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[1]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 Se forslaget på http://www.cst.dk/dk-clarin/files/eu-clarin_ad-hoc-registry-v6_0.pdf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9640" y="564120"/>
            <a:ext cx="799308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a-DK" sz="2000" spc="-1" strike="noStrike">
                <a:solidFill>
                  <a:srgbClr val="365aa5"/>
                </a:solidFill>
                <a:latin typeface="Verdana"/>
              </a:rPr>
              <a:t>DK-CLARINs forslag til generelle metadata for alle ressourcer. DC beskrivelserne er også angivet.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675560" cy="418176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Type </a:t>
            </a: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(DC element set): The nature or genre of the resource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Title </a:t>
            </a: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(DC element set): A name given to the resourc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Language </a:t>
            </a: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(DC element set): A language of the resource.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Description </a:t>
            </a: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(DC element set): An account of the resourc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Creator </a:t>
            </a: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(DC element set): An entity primarily responsible for making the resourc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Date </a:t>
            </a: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(DC element set): A point or period of time associated with an event in the lifecycle of the resourc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Format </a:t>
            </a: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(DC element set): The file format, physical medium, or dimensions of the resource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Identifier </a:t>
            </a: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(DC element set): An unambiguous reference to the resource within a given context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isVersionOf </a:t>
            </a: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(refined DC element set: relation) A related resource of which the described resource is a version, edition, or adaptation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6e6e6e"/>
                </a:solidFill>
                <a:latin typeface="Verdana"/>
              </a:rPr>
              <a:t>Flere??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2000" spc="-1" strike="noStrike">
                <a:solidFill>
                  <a:srgbClr val="365aa5"/>
                </a:solidFill>
                <a:latin typeface="Verdana"/>
              </a:rPr>
              <a:t>Struktur for tekstsamlinger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9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&lt;teiCorpus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&lt;teiHeader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&lt;!--[header information for the corpus]--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&lt;/teiHeader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&lt;TEI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 &lt;teiHeader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&lt;!--[header information for first text]--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 &lt;/teiHeader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 &lt;text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&lt;!--[first text in corpus]--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 &lt;/text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&lt;/TEI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&lt;TEI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 &lt;teiHeader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&lt;!--[header information for second text]--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 &lt;/teiHeader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 &lt;text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&lt;!--[second text in corpus]--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 &lt;/text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 &lt;/TEI&gt;</a:t>
            </a:r>
            <a:br>
              <a:rPr sz="1600"/>
            </a:b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&lt;/teiCorpus&gt;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eo</cp:lastModifiedBy>
  <dcterms:modified xsi:type="dcterms:W3CDTF">2008-09-05T10:51:49Z</dcterms:modified>
  <cp:revision>55</cp:revision>
  <dc:subject/>
  <dc:title>Lene Offersgaard, Bente Maegaard  Center for Sprogteknologi, Københavns Universitet loff@cst.dk, bente@cst.dk</dc:title>
</cp:coreProperties>
</file>