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6794640" cy="9906120"/>
          </a:xfrm>
          <a:custGeom>
            <a:avLst/>
            <a:gdLst>
              <a:gd name="textAreaLeft" fmla="*/ 360 w 6794640"/>
              <a:gd name="textAreaRight" fmla="*/ 6794280 w 67946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91">
                <a:moveTo>
                  <a:pt x="5" y="0"/>
                </a:moveTo>
                <a:arcTo wR="5" hR="5" stAng="16200000" swAng="-5400000"/>
                <a:lnTo>
                  <a:pt x="0" y="31486"/>
                </a:lnTo>
                <a:arcTo wR="5" hR="5" stAng="10800000" swAng="-5400000"/>
                <a:lnTo>
                  <a:pt x="21595" y="3149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872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65aa5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120" y="4704840"/>
            <a:ext cx="497988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9408960"/>
            <a:ext cx="2943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4948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F97FA-C8DC-41A2-83A3-667C7FE63F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FBD12-2D25-4765-8A0A-C7647F5640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8C6AA-0574-461E-816C-D515EF48D2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B1954-D7F8-45EE-8349-C935B723EB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D305D-4453-47E2-82AB-42250E5896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B7715-1B50-479C-ABAD-053797BCA6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F4189-5C95-4527-9EE4-9F153893B2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32A0F-9462-41DD-8473-D9E99783DA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F2167-1415-486C-8149-EDF7A9E676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968BA-0C77-479E-9980-BD2CAD0B95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97F16-C473-45A9-BD85-8C1B0C6246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A3EE6-4DA5-4BB7-BA50-55106A6D0A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E8AA7-9FE8-402D-91D1-DB5546510B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9C714-0B60-4326-8174-E3136BAFA7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6653E-EADA-4458-B3B2-A38D536BFE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592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8928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56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592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8928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42920" y="475920"/>
            <a:ext cx="588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8928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4256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8928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2920" y="475920"/>
            <a:ext cx="588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573880"/>
            <a:ext cx="9144000" cy="1284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rcRect l="0" t="0" r="20377" b="0"/>
          <a:stretch/>
        </p:blipFill>
        <p:spPr>
          <a:xfrm>
            <a:off x="0" y="0"/>
            <a:ext cx="9144000" cy="262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3"/>
          <p:cNvSpPr/>
          <p:nvPr/>
        </p:nvSpPr>
        <p:spPr>
          <a:xfrm>
            <a:off x="1042920" y="6343560"/>
            <a:ext cx="7186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6e6e6e"/>
                </a:solidFill>
                <a:latin typeface="Verdana"/>
              </a:rPr>
              <a:t>Dias </a:t>
            </a:r>
            <a:fld id="{77ECAB7D-CF41-47C9-A1F3-49952DD8AED4}" type="slidenum">
              <a:rPr b="0" lang="en-GB" sz="900" spc="-1" strike="noStrike">
                <a:solidFill>
                  <a:srgbClr val="6e6e6e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4"/>
          <p:cNvSpPr/>
          <p:nvPr/>
        </p:nvSpPr>
        <p:spPr>
          <a:xfrm flipH="1">
            <a:off x="3240" y="6694560"/>
            <a:ext cx="9151920" cy="1440"/>
          </a:xfrm>
          <a:prstGeom prst="line">
            <a:avLst/>
          </a:prstGeom>
          <a:ln w="9360">
            <a:solidFill>
              <a:srgbClr val="36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65aa5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2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3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4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5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6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555640" y="-3240"/>
            <a:ext cx="655164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52560"/>
            <a:ext cx="9144000" cy="128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rcRect l="0" t="0" r="20377" b="0"/>
          <a:stretch/>
        </p:blipFill>
        <p:spPr>
          <a:xfrm>
            <a:off x="0" y="0"/>
            <a:ext cx="9144000" cy="262080"/>
          </a:xfrm>
          <a:prstGeom prst="rect">
            <a:avLst/>
          </a:prstGeom>
          <a:ln w="0">
            <a:noFill/>
          </a:ln>
        </p:spPr>
      </p:pic>
      <p:sp>
        <p:nvSpPr>
          <p:cNvPr id="45" name="Line 3"/>
          <p:cNvSpPr/>
          <p:nvPr/>
        </p:nvSpPr>
        <p:spPr>
          <a:xfrm flipH="1">
            <a:off x="3240" y="1171440"/>
            <a:ext cx="9151920" cy="1800"/>
          </a:xfrm>
          <a:prstGeom prst="line">
            <a:avLst/>
          </a:prstGeom>
          <a:ln w="9360">
            <a:solidFill>
              <a:srgbClr val="36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28880" y="2064960"/>
            <a:ext cx="64944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65aa5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042920" y="6343560"/>
            <a:ext cx="7186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6e6e6e"/>
                </a:solidFill>
                <a:latin typeface="Verdana"/>
              </a:rPr>
              <a:t>Dias </a:t>
            </a:r>
            <a:fld id="{DA090FD9-0569-4E37-B9B9-14E75E4E06E7}" type="slidenum">
              <a:rPr b="0" lang="en-GB" sz="900" spc="-1" strike="noStrike">
                <a:solidFill>
                  <a:srgbClr val="6e6e6e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2"/>
          </p:nvPr>
        </p:nvSpPr>
        <p:spPr>
          <a:xfrm>
            <a:off x="2555640" y="-3240"/>
            <a:ext cx="655164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2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3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4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5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6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t.dk/dk-clarin/?q=WP5.2_task5_indholdsoversig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rcRect l="0" t="0" r="47710" b="5853"/>
          <a:stretch/>
        </p:blipFill>
        <p:spPr>
          <a:xfrm>
            <a:off x="6718320" y="4097160"/>
            <a:ext cx="2425680" cy="2760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16000" y="3860280"/>
            <a:ext cx="648648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6e6e6e"/>
                </a:solidFill>
                <a:latin typeface="Verdana"/>
              </a:rPr>
              <a:t>Center for Sprogteknologi, Københavns Universitet</a:t>
            </a: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6e6e6e"/>
                </a:solidFill>
                <a:latin typeface="Verdana"/>
              </a:rPr>
              <a:t>leneo@hum.ku.dk</a:t>
            </a: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5786280" y="1989000"/>
            <a:ext cx="3357720" cy="4869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15640" y="2133720"/>
            <a:ext cx="698508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65aa5"/>
                </a:solidFill>
                <a:latin typeface="Verdana"/>
              </a:rPr>
              <a:t>Workshop WP5 18. maj 2009</a:t>
            </a:r>
            <a:br>
              <a:rPr sz="2000"/>
            </a:br>
            <a:r>
              <a:rPr b="0" lang="da-DK" sz="2000" spc="-1" strike="noStrike">
                <a:solidFill>
                  <a:srgbClr val="365aa5"/>
                </a:solidFill>
                <a:latin typeface="Verdana"/>
              </a:rPr>
              <a:t>Resurser, værktøjer, typer og formater, oversigt over arbejdspakkernes bidrag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Spørgeskema ang. Web-services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440" y="1357200"/>
            <a:ext cx="7000920" cy="440064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Spørgsmål til web-service-leverandører:</a:t>
            </a: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1. Giv en kort beskrivelse af hvad din webservice lever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2. Beskriv et brugsscenarie af din webservice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3. Er din webservice SOAP eller REST baseret (Eller evt. andre protokoller / formater)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4. Beskriv input til din webservice  - Hvilke forskellige formater accepterer den  - Hvilke forskellige funktionaliterer har samme webeservice. 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5. Hvad er output fra din webservice  - Er output i sig selv en ny DKClarin ressource.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6. Hvor lang tid går der fra man spørger webservicen til man får et svar (sekunder, minutter) &gt; - Er der begrænsninger for hvor meget trafik der må være på webservicen.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7. Må alle tilgå webservices, eller er det KUN dkclarin brugere?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Konvertering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203220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Forskel mellem formatkonverteringer og automatiske annoteringer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De første er fejlfrie skønt de kan give informationstab,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De sidste er fejlbehæftede skønt de ikke giver informationstab.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Det skal brugeren måske gøres opmærksom på.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Opdager brugeren konverteringer, lemmatiseringer?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Noter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28440" y="1357200"/>
            <a:ext cx="7000920" cy="24624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txBody>
          <a:bodyPr lIns="4680" rIns="4680" tIns="4680" bIns="4680" anchor="t">
            <a:normAutofit fontScale="96000"/>
          </a:bodyPr>
          <a:p>
            <a:pPr marL="32760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28440" y="78552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Metadata -  status for spec-opgaverne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28800" y="1557000"/>
            <a:ext cx="7500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Generelle metadata: opdateret forslag afventer sparring mellem KB og CST.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WP2 har opnået enighed om metadata-struktur for WP2-tekster i TEI-P5 format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WP3.2 har lovet beskrivelse for deres metadata i næste uge. Denne forventes at kunne tilpasses audio og video for hele WP3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WP4 Lavt ambitionsniveau, ikke påbegynd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Hver arbejdspakke kan specificere nogle metadata som er obligatorisk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WP5.2 specificerer for samling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EU-CLARIN aktiviteter: vi forsøger at holde os orientere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Drift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440" y="1357200"/>
            <a:ext cx="7000920" cy="287352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Aspekter til overvejelse: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hw og operativsystem/basis-sw-vedligehold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Vedligehold af 3. parts sw-pakker/moduler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Vedligehold af egenudviklet sw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Web-service-integration-vedligehold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Nye web-services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Grænseflade-vedligehold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Nye data og nye formater for data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2000" spc="-1" strike="noStrike">
                <a:solidFill>
                  <a:srgbClr val="365aa5"/>
                </a:solidFill>
                <a:latin typeface="Verdana"/>
              </a:rPr>
              <a:t>Opsummering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285920"/>
            <a:ext cx="642924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Intro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390852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Indholdsoversigt: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cst.dk/dk-clarin/?q=WP5.2_task5_indholdsoversig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Opsummering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12 web-services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11 andre værktøjer(foreløbig)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Ca 25 ressourc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Muligt mål: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At DK-CLARIN’s WP’s ressourcer og værktøjer er “inde”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At andre også kan aflevere ressourcer både nu og sener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At der er en måde hvorpå nye værktøjer kan integreres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At grænsefladen stadig er brugbar når der lægges nye ting ind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Krav til formater i DK-CLARIN (1)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412452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Verdana"/>
              </a:rPr>
              <a:t>Nogle værktøjer kan håndtere flere formater. 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Verdana"/>
              </a:rPr>
              <a:t>Nogle kan selv opdage hvilket format er anvendt.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Men værktøjer har krav til fil-formater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Fx. lemmatiser, speech-scanner, WP3.2’s søgeværktøj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Nogle værktøjer har desuden krav til data-formater og forprocessering, 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Fx pos-tagger, lemmatiser : afhænger af hvordan ord er xml-opmærket, herunder tokenisering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Fx. INSS’s søge- og annoteringsværktøj: bruger DUDS-format og der kan laves konvertere fra/til andre formater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e6e6e"/>
                </a:solidFill>
                <a:latin typeface="Verdana"/>
              </a:rPr>
              <a:t>Visse formater giver derfor en vis funktionalitet!</a:t>
            </a:r>
            <a:endParaRPr b="0" lang="en-US" sz="20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Krav til formater i DK-CLARIN (2) mv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28440" y="1357200"/>
            <a:ext cx="7000920" cy="512928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e6e6e"/>
                </a:solidFill>
                <a:latin typeface="Verdana"/>
              </a:rPr>
              <a:t>Formidlingsopgave til brugeren:</a:t>
            </a:r>
            <a:endParaRPr b="0" lang="en-US" sz="20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e6e6e"/>
                </a:solidFill>
                <a:latin typeface="Verdana"/>
              </a:rPr>
              <a:t>hvis alt er tilladt(frit formatvalg i repositoriet) -&gt; </a:t>
            </a:r>
            <a:endParaRPr b="0" lang="en-US" sz="20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6e6e6e"/>
                </a:solidFill>
                <a:latin typeface="Verdana"/>
              </a:rPr>
              <a:t>så er alt ikke fuldt “brugbart”</a:t>
            </a:r>
            <a:endParaRPr b="0" lang="en-US" sz="20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e6e6e"/>
                </a:solidFill>
                <a:latin typeface="Verdana"/>
              </a:rPr>
              <a:t>hvis kun nogle formater er tilladt -&gt; alt kan alligevel ikke lade sig gøre</a:t>
            </a:r>
            <a:endParaRPr b="0" lang="en-US" sz="20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e6e6e"/>
                </a:solidFill>
                <a:latin typeface="Verdana"/>
              </a:rPr>
              <a:t>Formidling ang. Mulighed for fejl ved automatiske værktøjer</a:t>
            </a:r>
            <a:endParaRPr b="0" lang="en-US" sz="20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e6e6e"/>
                </a:solidFill>
                <a:latin typeface="Verdana"/>
              </a:rPr>
              <a:t>Brugeren skal også informeres om fejlmuligheder.</a:t>
            </a:r>
            <a:endParaRPr b="0" lang="en-US" sz="20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e6e6e"/>
                </a:solidFill>
                <a:latin typeface="Verdana"/>
              </a:rPr>
              <a:t>Også en udfordring hvis vi automatisk anvender  værktøjer “bag om ryggen” på brugeren fx konverter eller annotering </a:t>
            </a:r>
            <a:endParaRPr b="0" lang="en-US" sz="20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Hvordan får brugeren adgang til data…</a:t>
            </a:r>
            <a:br>
              <a:rPr sz="2000"/>
            </a:b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 - Begrænsninger pga rettigheder gemmer vi til i morgen…</a:t>
            </a:r>
            <a:br>
              <a:rPr sz="2000"/>
            </a:b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440" y="1357200"/>
            <a:ext cx="7000920" cy="268956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Metadata ligger i metadata-registran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Hvor ligger data?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I repository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Eksternt, henvisning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Kan de også skulle hentes hos dataejer “on the fly”?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Vil vi tilbyde nogle integrerede søgefaciliteter i data?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440" y="1357200"/>
            <a:ext cx="7000920" cy="468792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Tekstsøgning/Lemmasøgning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direkte i repositorietekster?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kun i fordefinerede korporaer?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Gennem web-grænsefladen, fælles opslagsside eller “eksternt”?</a:t>
            </a: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Søgning i audioannotering </a:t>
            </a: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vha. WP3.1 og WP3.2 søgemaskiner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Opslag i ordbøger</a:t>
            </a: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Gennem web-grænsefladen, fælles opslagsside eller “eksternt”?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Direkte i repositorie-ressourcer der ligger i xml?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Integrering af værktøjer: kun web-services?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339588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Web-services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REST(+WADL) eller SOAP (+WSDL)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Er der også mulighed for at vi integrerer kode direkte?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Kunne være nemmere for konvertere, hvis vi vil tilbyde brugeren at konvertere data mellem forskellige formater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Integration af værktøjer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28440" y="1357200"/>
            <a:ext cx="7000920" cy="468792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Web-service-brug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Verdana"/>
              <a:buAutoNum type="arabicPeriod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bruger vælger data fra repositorie 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Verdana"/>
              <a:buAutoNum type="arabicPeriod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systemet generer data til web-service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Verdana"/>
              <a:buAutoNum type="arabicPeriod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systemet aktiverer web-service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Verdana"/>
              <a:buAutoNum type="arabicPeriod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systemet modtager “svar”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Verdana"/>
              <a:buAutoNum type="arabicPeriod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systemet fortolker “svaret” og præsenterer det for brugeren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Brugergrænsefladen/præsentationen af resultatet: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Laves det af værktøjsejer eller i samarbejde med værktøjsejer (iFrame)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Nogle værktøjer har begrænsninger/optioner som gør det “indviklet” at bruge dem med alle facetter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Kræver kommunikation til bruger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Næste skridt ang. Tools/Web-services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440" y="1357200"/>
            <a:ext cx="7000920" cy="414504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Rundspørge til leverandører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Skabelon for at indhente oplysninger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På denne baggrund beslutte her i gruppen om alt skal være web-services, kode integreres direkte eller måske “både og”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Implementere 1-2 prototyper på web-services/værktøjsintegration til T21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Specifikation af integration afleveres af partnere T23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Beta implementation T28 som gammel plan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eo</cp:lastModifiedBy>
  <dcterms:modified xsi:type="dcterms:W3CDTF">2009-05-18T06:48:44Z</dcterms:modified>
  <cp:revision>95</cp:revision>
  <dc:subject/>
  <dc:title>Lene Offersgaard, Bente Maegaard  Center for Sprogteknologi, Københavns Universitet loff@cst.dk, bente@cst.dk</dc:title>
</cp:coreProperties>
</file>