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AutoShape 1"/>
          <p:cNvSpPr/>
          <p:nvPr/>
        </p:nvSpPr>
        <p:spPr>
          <a:xfrm>
            <a:off x="0" y="0"/>
            <a:ext cx="6794640" cy="9906120"/>
          </a:xfrm>
          <a:custGeom>
            <a:avLst/>
            <a:gdLst>
              <a:gd name="textAreaLeft" fmla="*/ 360 w 6794640"/>
              <a:gd name="textAreaRight" fmla="*/ 6794280 w 6794640"/>
              <a:gd name="textAreaTop" fmla="*/ 360 h 9906120"/>
              <a:gd name="textAreaBottom" fmla="*/ 9905760 h 9906120"/>
            </a:gdLst>
            <a:ahLst/>
            <a:rect l="textAreaLeft" t="textAreaTop" r="textAreaRight" b="textAreaBottom"/>
            <a:pathLst>
              <a:path w="21600" h="31491">
                <a:moveTo>
                  <a:pt x="5" y="0"/>
                </a:moveTo>
                <a:arcTo wR="5" hR="5" stAng="16200000" swAng="-5400000"/>
                <a:lnTo>
                  <a:pt x="0" y="31486"/>
                </a:lnTo>
                <a:arcTo wR="5" hR="5" stAng="10800000" swAng="-5400000"/>
                <a:lnTo>
                  <a:pt x="21595" y="3149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33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3849480" y="-36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8720" y="742680"/>
            <a:ext cx="495324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65aa5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06120" y="4704840"/>
            <a:ext cx="497988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4"/>
          </p:nvPr>
        </p:nvSpPr>
        <p:spPr>
          <a:xfrm>
            <a:off x="0" y="9408960"/>
            <a:ext cx="2943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5"/>
          </p:nvPr>
        </p:nvSpPr>
        <p:spPr>
          <a:xfrm>
            <a:off x="3849480" y="9408960"/>
            <a:ext cx="294300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1E608-3578-4490-883D-E8279FB4F5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49840" y="9408960"/>
            <a:ext cx="2943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9476BE-D266-427D-81C7-E9924AC404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49840" y="9408960"/>
            <a:ext cx="2943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D7A683-8488-4642-AE1C-E107D07C5C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49840" y="9408960"/>
            <a:ext cx="2943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2041AA-790F-4C80-B0C4-CA6BC5BEB11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49840" y="9408960"/>
            <a:ext cx="2943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26DC0-A7B1-458D-BE7F-6B5091AF35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49840" y="9408960"/>
            <a:ext cx="2943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34B8D0-9C94-461A-B366-3C34D5EF73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49840" y="9408960"/>
            <a:ext cx="2943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06D6EA-6430-4CA3-9817-68E02710A1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49840" y="9408960"/>
            <a:ext cx="2943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052540-883D-4221-A997-110CB5ACFF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49840" y="9408960"/>
            <a:ext cx="2943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38EE47-4AF9-4F4F-87E9-FBEFBAF5C0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49840" y="9408960"/>
            <a:ext cx="2943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CBC944-D76D-4FCC-9064-EE956AD321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49840" y="9408960"/>
            <a:ext cx="2943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941291-EAB6-4B25-9574-D76F7B9834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49840" y="9408960"/>
            <a:ext cx="2943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8EEE6-A28C-46F3-A808-20410FBD11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49840" y="9408960"/>
            <a:ext cx="2943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248716-B6D8-43B4-93EA-BD10CE90C2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49840" y="9408960"/>
            <a:ext cx="2943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456924-4442-429C-92D0-BE184E328C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49840" y="9408960"/>
            <a:ext cx="2943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98866C-8ECD-4623-8ADA-DFD5E0FB2C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49840" y="9408960"/>
            <a:ext cx="2943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684DC8-EBA6-4E0E-848B-03353CFCD4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49840" y="9408960"/>
            <a:ext cx="2943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6844F1-98B4-4A26-AE6A-6DC4CDA3FA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6575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42560" y="3519000"/>
            <a:ext cx="6575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12160" y="137448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42560" y="351900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12160" y="351900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21171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5920" y="1374480"/>
            <a:ext cx="21171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489280" y="1374480"/>
            <a:ext cx="21171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42560" y="3519000"/>
            <a:ext cx="21171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5920" y="3519000"/>
            <a:ext cx="21171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489280" y="3519000"/>
            <a:ext cx="21171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42560" y="1374480"/>
            <a:ext cx="65754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65754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32086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12160" y="1374480"/>
            <a:ext cx="32086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42920" y="475920"/>
            <a:ext cx="588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12160" y="1374480"/>
            <a:ext cx="32086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42560" y="351900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42560" y="1374480"/>
            <a:ext cx="65754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32086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12160" y="137448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412160" y="351900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12160" y="137448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42560" y="3519000"/>
            <a:ext cx="6575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6575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42560" y="3519000"/>
            <a:ext cx="6575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12160" y="137448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42560" y="351900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12160" y="351900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21171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65920" y="1374480"/>
            <a:ext cx="21171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489280" y="1374480"/>
            <a:ext cx="21171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42560" y="3519000"/>
            <a:ext cx="21171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65920" y="3519000"/>
            <a:ext cx="21171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489280" y="3519000"/>
            <a:ext cx="21171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65754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32086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12160" y="1374480"/>
            <a:ext cx="32086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42920" y="475920"/>
            <a:ext cx="588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12160" y="1374480"/>
            <a:ext cx="32086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42560" y="351900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32086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12160" y="137448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12160" y="351900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42560" y="137448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12160" y="1374480"/>
            <a:ext cx="32086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42560" y="3519000"/>
            <a:ext cx="6575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5573880"/>
            <a:ext cx="9144000" cy="12841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rcRect l="0" t="0" r="20377" b="0"/>
          <a:stretch/>
        </p:blipFill>
        <p:spPr>
          <a:xfrm>
            <a:off x="0" y="0"/>
            <a:ext cx="9144000" cy="262080"/>
          </a:xfrm>
          <a:prstGeom prst="rect">
            <a:avLst/>
          </a:prstGeom>
          <a:ln w="0">
            <a:noFill/>
          </a:ln>
        </p:spPr>
      </p:pic>
      <p:sp>
        <p:nvSpPr>
          <p:cNvPr id="2" name="Rectangle 3"/>
          <p:cNvSpPr/>
          <p:nvPr/>
        </p:nvSpPr>
        <p:spPr>
          <a:xfrm>
            <a:off x="1042920" y="6343560"/>
            <a:ext cx="7186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6e6e6e"/>
                </a:solidFill>
                <a:latin typeface="Verdana"/>
              </a:rPr>
              <a:t>Dias </a:t>
            </a:r>
            <a:fld id="{3262C89A-9CA3-4202-AEB5-EC8EFDAFAE03}" type="slidenum">
              <a:rPr b="0" lang="en-GB" sz="900" spc="-1" strike="noStrike">
                <a:solidFill>
                  <a:srgbClr val="6e6e6e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Line 4"/>
          <p:cNvSpPr/>
          <p:nvPr/>
        </p:nvSpPr>
        <p:spPr>
          <a:xfrm flipH="1">
            <a:off x="3240" y="6694560"/>
            <a:ext cx="9151920" cy="1440"/>
          </a:xfrm>
          <a:prstGeom prst="line">
            <a:avLst/>
          </a:prstGeom>
          <a:ln w="9360">
            <a:solidFill>
              <a:srgbClr val="365a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588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65aa5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42560" y="1374480"/>
            <a:ext cx="65754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1" marL="341280" indent="-341280">
              <a:lnSpc>
                <a:spcPct val="101000"/>
              </a:lnSpc>
              <a:spcBef>
                <a:spcPts val="400"/>
              </a:spcBef>
              <a:buClr>
                <a:srgbClr val="6e6e6e"/>
              </a:buClr>
              <a:buFont typeface="Verdana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2" marL="341280" indent="-341280">
              <a:lnSpc>
                <a:spcPct val="101000"/>
              </a:lnSpc>
              <a:spcBef>
                <a:spcPts val="400"/>
              </a:spcBef>
              <a:buClr>
                <a:srgbClr val="6e6e6e"/>
              </a:buClr>
              <a:buFont typeface="Verdana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3" marL="341280" indent="-341280">
              <a:lnSpc>
                <a:spcPct val="101000"/>
              </a:lnSpc>
              <a:spcBef>
                <a:spcPts val="400"/>
              </a:spcBef>
              <a:buClr>
                <a:srgbClr val="6e6e6e"/>
              </a:buClr>
              <a:buFont typeface="Verdana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4" marL="341280" indent="-341280">
              <a:lnSpc>
                <a:spcPct val="101000"/>
              </a:lnSpc>
              <a:spcBef>
                <a:spcPts val="400"/>
              </a:spcBef>
              <a:buClr>
                <a:srgbClr val="6e6e6e"/>
              </a:buClr>
              <a:buFont typeface="Verdana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5" marL="341280" indent="-3412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6" marL="341280" indent="-3412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2555640" y="-3240"/>
            <a:ext cx="655164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000" spc="-1" strike="noStrike">
                <a:solidFill>
                  <a:srgbClr val="f8f8f8"/>
                </a:solidFill>
                <a:latin typeface="Times New Roman"/>
              </a:rPr>
              <a:t>DK-CLARIN stormøde 7. okt.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0" y="52560"/>
            <a:ext cx="9144000" cy="1284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rcRect l="0" t="0" r="20377" b="0"/>
          <a:stretch/>
        </p:blipFill>
        <p:spPr>
          <a:xfrm>
            <a:off x="0" y="0"/>
            <a:ext cx="9144000" cy="262080"/>
          </a:xfrm>
          <a:prstGeom prst="rect">
            <a:avLst/>
          </a:prstGeom>
          <a:ln w="0">
            <a:noFill/>
          </a:ln>
        </p:spPr>
      </p:pic>
      <p:sp>
        <p:nvSpPr>
          <p:cNvPr id="45" name="Line 3"/>
          <p:cNvSpPr/>
          <p:nvPr/>
        </p:nvSpPr>
        <p:spPr>
          <a:xfrm flipH="1">
            <a:off x="3240" y="1171440"/>
            <a:ext cx="9151920" cy="1800"/>
          </a:xfrm>
          <a:prstGeom prst="line">
            <a:avLst/>
          </a:prstGeom>
          <a:ln w="9360">
            <a:solidFill>
              <a:srgbClr val="365a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1268280"/>
            <a:ext cx="9144000" cy="558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28880" y="2064960"/>
            <a:ext cx="649440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65aa5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042920" y="6343560"/>
            <a:ext cx="7186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6e6e6e"/>
                </a:solidFill>
                <a:latin typeface="Verdana"/>
              </a:rPr>
              <a:t>Dias </a:t>
            </a:r>
            <a:fld id="{29AB3CEC-C9AF-46DB-BFA1-222CFF5CA7EB}" type="slidenum">
              <a:rPr b="0" lang="en-GB" sz="900" spc="-1" strike="noStrike">
                <a:solidFill>
                  <a:srgbClr val="6e6e6e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2"/>
          </p:nvPr>
        </p:nvSpPr>
        <p:spPr>
          <a:xfrm>
            <a:off x="2555640" y="-3240"/>
            <a:ext cx="655164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000" spc="-1" strike="noStrike">
                <a:solidFill>
                  <a:srgbClr val="f8f8f8"/>
                </a:solidFill>
                <a:latin typeface="Times New Roman"/>
              </a:rPr>
              <a:t>DK-CLARIN stormøde 7. okt.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1" marL="341280" indent="-341280">
              <a:lnSpc>
                <a:spcPct val="101000"/>
              </a:lnSpc>
              <a:spcBef>
                <a:spcPts val="400"/>
              </a:spcBef>
              <a:buClr>
                <a:srgbClr val="6e6e6e"/>
              </a:buClr>
              <a:buFont typeface="Verdana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2" marL="341280" indent="-341280">
              <a:lnSpc>
                <a:spcPct val="101000"/>
              </a:lnSpc>
              <a:spcBef>
                <a:spcPts val="400"/>
              </a:spcBef>
              <a:buClr>
                <a:srgbClr val="6e6e6e"/>
              </a:buClr>
              <a:buFont typeface="Verdana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3" marL="341280" indent="-341280">
              <a:lnSpc>
                <a:spcPct val="101000"/>
              </a:lnSpc>
              <a:spcBef>
                <a:spcPts val="400"/>
              </a:spcBef>
              <a:buClr>
                <a:srgbClr val="6e6e6e"/>
              </a:buClr>
              <a:buFont typeface="Verdana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4" marL="341280" indent="-341280">
              <a:lnSpc>
                <a:spcPct val="101000"/>
              </a:lnSpc>
              <a:spcBef>
                <a:spcPts val="400"/>
              </a:spcBef>
              <a:buClr>
                <a:srgbClr val="6e6e6e"/>
              </a:buClr>
              <a:buFont typeface="Verdana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5" marL="341280" indent="-3412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lvl="6" marL="341280" indent="-3412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rcRect l="0" t="0" r="47710" b="5853"/>
          <a:stretch/>
        </p:blipFill>
        <p:spPr>
          <a:xfrm>
            <a:off x="6718320" y="4097160"/>
            <a:ext cx="2425680" cy="27608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116000" y="3860640"/>
            <a:ext cx="6486480" cy="15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6e6e6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6e6e6e"/>
                </a:solidFill>
                <a:latin typeface="Verdana"/>
              </a:rPr>
              <a:t>Stormøde 7. okt. 2009</a:t>
            </a:r>
            <a:endParaRPr b="0" lang="en-US" sz="1400" spc="-1" strike="noStrike">
              <a:solidFill>
                <a:srgbClr val="6e6e6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6e6e6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6e6e6e"/>
                </a:solidFill>
                <a:latin typeface="Verdana"/>
              </a:rPr>
              <a:t>DK-CLARIN WP5 </a:t>
            </a:r>
            <a:endParaRPr b="0" lang="en-US" sz="1400" spc="-1" strike="noStrike">
              <a:solidFill>
                <a:srgbClr val="6e6e6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6e6e6e"/>
                </a:solidFill>
                <a:latin typeface="Verdana"/>
              </a:rPr>
              <a:t>Lene Offersgaard, Bart Jongejan</a:t>
            </a:r>
            <a:endParaRPr b="0" lang="en-US" sz="1400" spc="-1" strike="noStrike">
              <a:solidFill>
                <a:srgbClr val="6e6e6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6e6e6e"/>
              </a:solidFill>
              <a:latin typeface="Verdana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5786280" y="1989000"/>
            <a:ext cx="3357720" cy="4869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115640" y="2133360"/>
            <a:ext cx="6985080" cy="123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65aa5"/>
                </a:solidFill>
                <a:latin typeface="Verdana"/>
              </a:rPr>
              <a:t>WP5 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365aa5"/>
                </a:solidFill>
                <a:latin typeface="Verdana"/>
              </a:rPr>
              <a:t>Metadata, ressourcetyper, og værktøjer</a:t>
            </a:r>
            <a:br>
              <a:rPr sz="2000"/>
            </a:b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99" name="Pladsholder til sidefod 5"/>
          <p:cNvSpPr/>
          <p:nvPr/>
        </p:nvSpPr>
        <p:spPr>
          <a:xfrm>
            <a:off x="2556000" y="-3240"/>
            <a:ext cx="65516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8f8f8"/>
                </a:solidFill>
                <a:latin typeface="Times New Roman"/>
              </a:rPr>
              <a:t>DK-CLARIN stormøde 7. okt. 2009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dsholder til sidefod 3"/>
          <p:cNvSpPr/>
          <p:nvPr/>
        </p:nvSpPr>
        <p:spPr>
          <a:xfrm>
            <a:off x="2556000" y="-3240"/>
            <a:ext cx="65516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8f8f8"/>
                </a:solidFill>
                <a:latin typeface="Verdana"/>
              </a:rPr>
              <a:t>DK-CLARIN stormøde 7. okt. 2009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28440" y="500040"/>
            <a:ext cx="7993080" cy="3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65aa5"/>
                </a:solidFill>
                <a:latin typeface="Verdana"/>
              </a:rPr>
              <a:t>Ressourceformater</a:t>
            </a: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28800" y="1357200"/>
            <a:ext cx="7572240" cy="13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Tak til alle arbejdspakker for input til specifikationen af formater. Se detaljer i kravsspecifikationen kapitel 3.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Data’: Den eneste ressourcetype som ikke har tilknyttet format-krav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357200" y="2643120"/>
          <a:ext cx="6072480" cy="3708360"/>
        </p:xfrm>
        <a:graphic>
          <a:graphicData uri="http://schemas.openxmlformats.org/drawingml/2006/table">
            <a:tbl>
              <a:tblPr/>
              <a:tblGrid>
                <a:gridCol w="2335320"/>
                <a:gridCol w="37371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yp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ormatkra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k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I-P5-XML TEI-P2-WP2-XM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y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wav  .mp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de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mov  .avi i mpeg4-form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lle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FF  JPEG2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ksik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ML  rdf/owl  c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kstannoter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I-P5-XML  XML  XC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ydannoter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TextGrid  .ch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deoannoter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cha ELAN Anvi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dsholder til sidefod 3"/>
          <p:cNvSpPr/>
          <p:nvPr/>
        </p:nvSpPr>
        <p:spPr>
          <a:xfrm>
            <a:off x="2556000" y="-3240"/>
            <a:ext cx="65516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8f8f8"/>
                </a:solidFill>
                <a:latin typeface="Verdana"/>
              </a:rPr>
              <a:t>DK-CLARIN stormøde 7. okt. 2009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28440" y="500040"/>
            <a:ext cx="7993080" cy="3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65aa5"/>
                </a:solidFill>
                <a:latin typeface="Verdana"/>
              </a:rPr>
              <a:t>Ressourcetyper og –formater  - status</a:t>
            </a: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28800" y="1557000"/>
            <a:ext cx="750096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Specifikationen dækker de ressourcetyper og –formater der kommer i spil i DK-CLARIN’s projektperiode. 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Der skal være plads til alle ovennævnte formater.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Et værktøj kan have begrænsninger mht. hvilke input/output formater der kan anvendes.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Indhold i DK-CLARIN: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Oversigt over ressourcer og værktøjer: </a:t>
            </a:r>
            <a:r>
              <a:rPr b="0" lang="en-GB" sz="1600" spc="-1" strike="noStrike">
                <a:solidFill>
                  <a:srgbClr val="365aa5"/>
                </a:solidFill>
                <a:latin typeface="Verdana"/>
              </a:rPr>
              <a:t>http://www.cst.dk/dk-clarin/?q=WP5.2_task5_indholdsoversigt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6e6e6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12 web-services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6e6e6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11 andre værktøjer(foreløbig)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6e6e6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Ca 25 ressourcer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Vi vil gerne høre om ekstra ressourcer som kan lægges I DK-CLARIN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Nogle har allerede svaret tilbage, tak for det!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dsholder til sidefod 3"/>
          <p:cNvSpPr/>
          <p:nvPr/>
        </p:nvSpPr>
        <p:spPr>
          <a:xfrm>
            <a:off x="2556000" y="-3240"/>
            <a:ext cx="65516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8f8f8"/>
                </a:solidFill>
                <a:latin typeface="Verdana"/>
              </a:rPr>
              <a:t>DK-CLARIN stormøde 7. okt. 2009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28440" y="428400"/>
            <a:ext cx="7993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65aa5"/>
                </a:solidFill>
                <a:latin typeface="Verdana"/>
              </a:rPr>
              <a:t>Værktøjer – eksterne og integrerede</a:t>
            </a: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28440" y="1357200"/>
            <a:ext cx="70009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6e6e6e"/>
                </a:solidFill>
                <a:latin typeface="Verdana"/>
              </a:rPr>
              <a:t>Eksterne værktøjer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værktøjer som der kun registreres i DK-CLARIN med metadata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kan ikke kaldes direkte fra infrastrukturen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6e6e6e"/>
                </a:solidFill>
                <a:latin typeface="Verdana"/>
              </a:rPr>
              <a:t>Integrerede værktøjer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værktøjer der er integreret som web-services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6e6e6e"/>
                </a:solidFill>
                <a:latin typeface="Verdana"/>
              </a:rPr>
              <a:t>Web-services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To mulige standarder for implementering: 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REST(+WADL) eller SOAP (+WSDL)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REST vil med sikkerhed blive benyttet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Ingen meldinger fra partnere om at SOAP er nødvendig, så om muligt vil vi derfor nøjes med REST-baserede web-services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dsholder til sidefod 3"/>
          <p:cNvSpPr/>
          <p:nvPr/>
        </p:nvSpPr>
        <p:spPr>
          <a:xfrm>
            <a:off x="2556000" y="-3240"/>
            <a:ext cx="65516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8f8f8"/>
                </a:solidFill>
                <a:latin typeface="Verdana"/>
              </a:rPr>
              <a:t>DK-CLARIN stormøde 7. okt. 2009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28440" y="428400"/>
            <a:ext cx="7993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65aa5"/>
                </a:solidFill>
                <a:latin typeface="Verdana"/>
              </a:rPr>
              <a:t>Integration af værktøjer – et eksempel</a:t>
            </a: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28440" y="928800"/>
            <a:ext cx="7429320" cy="666720"/>
          </a:xfrm>
          <a:prstGeom prst="rect">
            <a:avLst/>
          </a:prstGeom>
          <a:noFill/>
          <a:ln w="9360">
            <a:solidFill>
              <a:srgbClr val="bfbfbf"/>
            </a:solidFill>
            <a:round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6e6e6e"/>
                </a:solidFill>
                <a:latin typeface="Verdana"/>
              </a:rPr>
              <a:t>Opgave: Lemmatisere en tekst  vha. web-service</a:t>
            </a:r>
            <a:endParaRPr b="0" lang="en-US" sz="20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6e6e6e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6e6e6e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6e6e6e"/>
                </a:solidFill>
                <a:latin typeface="Verdana"/>
              </a:rPr>
              <a:t>   </a:t>
            </a:r>
            <a:r>
              <a:rPr b="0" lang="en-GB" sz="2000" spc="-1" strike="noStrike">
                <a:solidFill>
                  <a:srgbClr val="6e6e6e"/>
                </a:solidFill>
                <a:latin typeface="Verdana"/>
              </a:rPr>
              <a:t>WP2-baseformat anvendes</a:t>
            </a:r>
            <a:endParaRPr b="0" lang="en-US" sz="20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138" name="Afrundet rektangel 6"/>
          <p:cNvSpPr/>
          <p:nvPr/>
        </p:nvSpPr>
        <p:spPr>
          <a:xfrm>
            <a:off x="3714840" y="5072040"/>
            <a:ext cx="2428920" cy="1357200"/>
          </a:xfrm>
          <a:prstGeom prst="roundRect">
            <a:avLst>
              <a:gd name="adj" fmla="val 1666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Verdana"/>
              </a:rPr>
              <a:t>Web-servi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Afrundet rektangel 7"/>
          <p:cNvSpPr/>
          <p:nvPr/>
        </p:nvSpPr>
        <p:spPr>
          <a:xfrm>
            <a:off x="4143240" y="5715000"/>
            <a:ext cx="1714680" cy="6429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Verdana"/>
              </a:rPr>
              <a:t>Cst-lemmatiz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Udfyldt blanket 8"/>
          <p:cNvSpPr/>
          <p:nvPr/>
        </p:nvSpPr>
        <p:spPr>
          <a:xfrm>
            <a:off x="6643800" y="2286000"/>
            <a:ext cx="1285920" cy="121428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Verdana"/>
              </a:rPr>
              <a:t>Lemma-tiser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Udfyldt blanket 9"/>
          <p:cNvSpPr/>
          <p:nvPr/>
        </p:nvSpPr>
        <p:spPr>
          <a:xfrm>
            <a:off x="1000080" y="2000160"/>
            <a:ext cx="857160" cy="78588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Verdana"/>
              </a:rPr>
              <a:t>tek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Udfyldt blanket 10"/>
          <p:cNvSpPr/>
          <p:nvPr/>
        </p:nvSpPr>
        <p:spPr>
          <a:xfrm>
            <a:off x="2143080" y="2214720"/>
            <a:ext cx="1000080" cy="78552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Tokeniser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Udfyldt blanket 11"/>
          <p:cNvSpPr/>
          <p:nvPr/>
        </p:nvSpPr>
        <p:spPr>
          <a:xfrm>
            <a:off x="2143080" y="3214800"/>
            <a:ext cx="1000080" cy="9284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POS-annoter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Manuel indlæsning 12"/>
          <p:cNvSpPr/>
          <p:nvPr/>
        </p:nvSpPr>
        <p:spPr>
          <a:xfrm>
            <a:off x="2143080" y="4286160"/>
            <a:ext cx="1071720" cy="357120"/>
          </a:xfrm>
          <a:prstGeom prst="flowChartManualInpu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Verdana"/>
              </a:rPr>
              <a:t>op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45" name="Lige pilforbindelse 14"/>
          <p:cNvCxnSpPr>
            <a:stCxn id="142" idx="3"/>
          </p:cNvCxnSpPr>
          <p:nvPr/>
        </p:nvCxnSpPr>
        <p:spPr>
          <a:xfrm>
            <a:off x="3142800" y="2606400"/>
            <a:ext cx="715320" cy="260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6" name="Lige pilforbindelse 16"/>
          <p:cNvCxnSpPr>
            <a:stCxn id="144" idx="3"/>
          </p:cNvCxnSpPr>
          <p:nvPr/>
        </p:nvCxnSpPr>
        <p:spPr>
          <a:xfrm>
            <a:off x="3214440" y="4465800"/>
            <a:ext cx="500760" cy="60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7" name="Lige pilforbindelse 24"/>
          <p:cNvCxnSpPr>
            <a:stCxn id="143" idx="3"/>
          </p:cNvCxnSpPr>
          <p:nvPr/>
        </p:nvCxnSpPr>
        <p:spPr>
          <a:xfrm>
            <a:off x="3143160" y="3679560"/>
            <a:ext cx="643320" cy="1321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8" name="Lige pilforbindelse 30"/>
          <p:cNvCxnSpPr/>
          <p:nvPr/>
        </p:nvCxnSpPr>
        <p:spPr>
          <a:xfrm flipV="1">
            <a:off x="6143760" y="3499560"/>
            <a:ext cx="714960" cy="164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9" name="Lige forbindelse 37"/>
          <p:cNvSpPr/>
          <p:nvPr/>
        </p:nvSpPr>
        <p:spPr>
          <a:xfrm>
            <a:off x="1071720" y="4857840"/>
            <a:ext cx="6929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Udfyldt blanket 7"/>
          <p:cNvSpPr/>
          <p:nvPr/>
        </p:nvSpPr>
        <p:spPr>
          <a:xfrm>
            <a:off x="928800" y="4000680"/>
            <a:ext cx="7429320" cy="257148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Udfyldt blanket 5"/>
          <p:cNvSpPr/>
          <p:nvPr/>
        </p:nvSpPr>
        <p:spPr>
          <a:xfrm>
            <a:off x="928800" y="1357200"/>
            <a:ext cx="7358040" cy="25718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dsholder til sidefod 3"/>
          <p:cNvSpPr/>
          <p:nvPr/>
        </p:nvSpPr>
        <p:spPr>
          <a:xfrm>
            <a:off x="2556000" y="-3240"/>
            <a:ext cx="65516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8f8f8"/>
                </a:solidFill>
                <a:latin typeface="Verdana"/>
              </a:rPr>
              <a:t>DK-CLARIN stormøde 7. okt. 2009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28440" y="428400"/>
            <a:ext cx="7993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65aa5"/>
                </a:solidFill>
                <a:latin typeface="Verdana"/>
              </a:rPr>
              <a:t>Eksempel: input til web-service: 2 ressourcer  </a:t>
            </a: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28440" y="1356840"/>
            <a:ext cx="742932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a-DK" sz="1800" spc="-1" strike="noStrike">
                <a:solidFill>
                  <a:srgbClr val="6e6e6e"/>
                </a:solidFill>
                <a:latin typeface="Verdana"/>
                <a:ea typeface="Courier New"/>
              </a:rPr>
              <a:t>Input 1: Ressource med tokens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&lt;</a:t>
            </a:r>
            <a:r>
              <a:rPr b="1" lang="da-DK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spanGrp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 ana=</a:t>
            </a:r>
            <a:r>
              <a:rPr b="1" lang="da-DK" sz="1800" spc="-1" strike="noStrike">
                <a:solidFill>
                  <a:srgbClr val="0070c0"/>
                </a:solidFill>
                <a:latin typeface="Courier New"/>
                <a:ea typeface="Courier New"/>
              </a:rPr>
              <a:t>"#tokenRegular"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    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&lt;</a:t>
            </a:r>
            <a:r>
              <a:rPr b="1" lang="da-DK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span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 xml:id=</a:t>
            </a:r>
            <a:r>
              <a:rPr b="1" lang="da-DK" sz="1800" spc="-1" strike="noStrike">
                <a:solidFill>
                  <a:srgbClr val="0070c0"/>
                </a:solidFill>
                <a:latin typeface="Courier New"/>
                <a:ea typeface="Courier New"/>
              </a:rPr>
              <a:t>"t1"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 from=</a:t>
            </a:r>
            <a:r>
              <a:rPr b="1" lang="da-DK" sz="1800" spc="-1" strike="noStrike">
                <a:solidFill>
                  <a:srgbClr val="0070c0"/>
                </a:solidFill>
                <a:latin typeface="Courier New"/>
                <a:ea typeface="Courier New"/>
              </a:rPr>
              <a:t>"#y01"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&gt; </a:t>
            </a:r>
            <a:r>
              <a:rPr b="1" lang="da-DK" sz="1800" spc="-1" strike="noStrike">
                <a:solidFill>
                  <a:srgbClr val="002060"/>
                </a:solidFill>
                <a:latin typeface="Courier New"/>
                <a:ea typeface="Courier New"/>
              </a:rPr>
              <a:t>stormen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    &lt;/</a:t>
            </a:r>
            <a:r>
              <a:rPr b="1" lang="da-DK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span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    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&lt;</a:t>
            </a:r>
            <a:r>
              <a:rPr b="1" lang="da-DK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span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 xml:id=</a:t>
            </a:r>
            <a:r>
              <a:rPr b="1" lang="da-DK" sz="1800" spc="-1" strike="noStrike">
                <a:solidFill>
                  <a:srgbClr val="0070c0"/>
                </a:solidFill>
                <a:latin typeface="Courier New"/>
                <a:ea typeface="Courier New"/>
              </a:rPr>
              <a:t>"t2"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 from=</a:t>
            </a:r>
            <a:r>
              <a:rPr b="1" lang="da-DK" sz="1800" spc="-1" strike="noStrike">
                <a:solidFill>
                  <a:srgbClr val="0070c0"/>
                </a:solidFill>
                <a:latin typeface="Courier New"/>
                <a:ea typeface="Courier New"/>
              </a:rPr>
              <a:t>"#y03"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&gt; </a:t>
            </a:r>
            <a:r>
              <a:rPr b="1" lang="da-DK" sz="1800" spc="-1" strike="noStrike">
                <a:solidFill>
                  <a:srgbClr val="002060"/>
                </a:solidFill>
                <a:latin typeface="Courier New"/>
                <a:ea typeface="Courier New"/>
              </a:rPr>
              <a:t>har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        &lt;/</a:t>
            </a:r>
            <a:r>
              <a:rPr b="1" lang="da-DK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span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    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&lt;</a:t>
            </a:r>
            <a:r>
              <a:rPr b="1" lang="da-DK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span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 xml:id=</a:t>
            </a:r>
            <a:r>
              <a:rPr b="1" lang="da-DK" sz="1800" spc="-1" strike="noStrike">
                <a:solidFill>
                  <a:srgbClr val="0070c0"/>
                </a:solidFill>
                <a:latin typeface="Courier New"/>
                <a:ea typeface="Courier New"/>
              </a:rPr>
              <a:t>"t3"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 from=</a:t>
            </a:r>
            <a:r>
              <a:rPr b="1" lang="da-DK" sz="1800" spc="-1" strike="noStrike">
                <a:solidFill>
                  <a:srgbClr val="0070c0"/>
                </a:solidFill>
                <a:latin typeface="Courier New"/>
                <a:ea typeface="Courier New"/>
              </a:rPr>
              <a:t>"#y05"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&gt; </a:t>
            </a:r>
            <a:r>
              <a:rPr b="1" lang="da-DK" sz="1800" spc="-1" strike="noStrike">
                <a:solidFill>
                  <a:srgbClr val="002060"/>
                </a:solidFill>
                <a:latin typeface="Courier New"/>
                <a:ea typeface="Courier New"/>
              </a:rPr>
              <a:t>lagt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       &lt;/</a:t>
            </a:r>
            <a:r>
              <a:rPr b="1" lang="da-DK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span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    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&lt;</a:t>
            </a:r>
            <a:r>
              <a:rPr b="1" lang="da-DK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span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 xml:id=</a:t>
            </a:r>
            <a:r>
              <a:rPr b="1" lang="da-DK" sz="1800" spc="-1" strike="noStrike">
                <a:solidFill>
                  <a:srgbClr val="0070c0"/>
                </a:solidFill>
                <a:latin typeface="Courier New"/>
                <a:ea typeface="Courier New"/>
              </a:rPr>
              <a:t>"t4"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 from=</a:t>
            </a:r>
            <a:r>
              <a:rPr b="1" lang="da-DK" sz="1800" spc="-1" strike="noStrike">
                <a:solidFill>
                  <a:srgbClr val="0070c0"/>
                </a:solidFill>
                <a:latin typeface="Courier New"/>
                <a:ea typeface="Courier New"/>
              </a:rPr>
              <a:t>"#y07"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&gt; </a:t>
            </a:r>
            <a:r>
              <a:rPr b="1" lang="da-DK" sz="1800" spc="-1" strike="noStrike">
                <a:solidFill>
                  <a:srgbClr val="002060"/>
                </a:solidFill>
                <a:latin typeface="Courier New"/>
                <a:ea typeface="Courier New"/>
              </a:rPr>
              <a:t>sig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        &lt;/</a:t>
            </a:r>
            <a:r>
              <a:rPr b="1" lang="da-DK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span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&lt;/</a:t>
            </a:r>
            <a:r>
              <a:rPr b="1" lang="da-DK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spanGrp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928800" y="4037040"/>
            <a:ext cx="742932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1280" indent="-341280">
              <a:lnSpc>
                <a:spcPct val="101000"/>
              </a:lnSpc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a-DK" sz="1800" spc="-1" strike="noStrike">
                <a:solidFill>
                  <a:srgbClr val="6e6e6e"/>
                </a:solidFill>
                <a:latin typeface="Verdana"/>
                <a:ea typeface="Courier New"/>
              </a:rPr>
              <a:t>Input 2: Annotation af ressourcen: ordklass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&lt;</a:t>
            </a:r>
            <a:r>
              <a:rPr b="1" lang="da-DK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spanGrp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 ana=</a:t>
            </a:r>
            <a:r>
              <a:rPr b="1" lang="da-DK" sz="1800" spc="-1" strike="noStrike">
                <a:solidFill>
                  <a:srgbClr val="0070c0"/>
                </a:solidFill>
                <a:latin typeface="Courier New"/>
                <a:ea typeface="Courier New"/>
              </a:rPr>
              <a:t>"#pos"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    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&lt;</a:t>
            </a:r>
            <a:r>
              <a:rPr b="1" lang="da-DK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span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 xml:id=</a:t>
            </a:r>
            <a:r>
              <a:rPr b="1" lang="da-DK" sz="1800" spc="-1" strike="noStrike">
                <a:solidFill>
                  <a:srgbClr val="0070c0"/>
                </a:solidFill>
                <a:latin typeface="Courier New"/>
                <a:ea typeface="Courier New"/>
              </a:rPr>
              <a:t>"p1"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 from=</a:t>
            </a:r>
            <a:r>
              <a:rPr b="1" lang="da-DK" sz="1800" spc="-1" strike="noStrike">
                <a:solidFill>
                  <a:srgbClr val="0070c0"/>
                </a:solidFill>
                <a:latin typeface="Courier New"/>
                <a:ea typeface="Courier New"/>
              </a:rPr>
              <a:t>"#t1”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&gt;   </a:t>
            </a:r>
            <a:r>
              <a:rPr b="1" lang="da-DK" sz="1800" spc="-1" strike="noStrike">
                <a:solidFill>
                  <a:srgbClr val="002060"/>
                </a:solidFill>
                <a:latin typeface="Courier New"/>
                <a:ea typeface="Courier New"/>
              </a:rPr>
              <a:t>N_DEF_SING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 &lt;/</a:t>
            </a:r>
            <a:r>
              <a:rPr b="1" lang="da-DK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span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    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&lt;</a:t>
            </a:r>
            <a:r>
              <a:rPr b="1" lang="da-DK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span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 xml:id=</a:t>
            </a:r>
            <a:r>
              <a:rPr b="1" lang="da-DK" sz="1800" spc="-1" strike="noStrike">
                <a:solidFill>
                  <a:srgbClr val="0070c0"/>
                </a:solidFill>
                <a:latin typeface="Courier New"/>
                <a:ea typeface="Courier New"/>
              </a:rPr>
              <a:t>"p2"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 from=</a:t>
            </a:r>
            <a:r>
              <a:rPr b="1" lang="da-DK" sz="1800" spc="-1" strike="noStrike">
                <a:solidFill>
                  <a:srgbClr val="0070c0"/>
                </a:solidFill>
                <a:latin typeface="Courier New"/>
                <a:ea typeface="Courier New"/>
              </a:rPr>
              <a:t>"#t2"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&gt;       </a:t>
            </a:r>
            <a:r>
              <a:rPr b="1" lang="da-DK" sz="1800" spc="-1" strike="noStrike">
                <a:solidFill>
                  <a:srgbClr val="002060"/>
                </a:solidFill>
                <a:latin typeface="Courier New"/>
                <a:ea typeface="Courier New"/>
              </a:rPr>
              <a:t>V_PRES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 &lt;/</a:t>
            </a:r>
            <a:r>
              <a:rPr b="1" lang="da-DK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span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    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&lt;</a:t>
            </a:r>
            <a:r>
              <a:rPr b="1" lang="da-DK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span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 xml:id=</a:t>
            </a:r>
            <a:r>
              <a:rPr b="1" lang="da-DK" sz="1800" spc="-1" strike="noStrike">
                <a:solidFill>
                  <a:srgbClr val="0070c0"/>
                </a:solidFill>
                <a:latin typeface="Courier New"/>
                <a:ea typeface="Courier New"/>
              </a:rPr>
              <a:t>"p3"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 from=</a:t>
            </a:r>
            <a:r>
              <a:rPr b="1" lang="da-DK" sz="1800" spc="-1" strike="noStrike">
                <a:solidFill>
                  <a:srgbClr val="0070c0"/>
                </a:solidFill>
                <a:latin typeface="Courier New"/>
                <a:ea typeface="Courier New"/>
              </a:rPr>
              <a:t>"#t3"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&gt; </a:t>
            </a:r>
            <a:r>
              <a:rPr b="1" lang="da-DK" sz="1800" spc="-1" strike="noStrike">
                <a:solidFill>
                  <a:srgbClr val="002060"/>
                </a:solidFill>
                <a:latin typeface="Courier New"/>
                <a:ea typeface="Courier New"/>
              </a:rPr>
              <a:t>V_PARTC_PAST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 &lt;/</a:t>
            </a:r>
            <a:r>
              <a:rPr b="1" lang="da-DK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span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    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&lt;</a:t>
            </a:r>
            <a:r>
              <a:rPr b="1" lang="da-DK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span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 xml:id=</a:t>
            </a:r>
            <a:r>
              <a:rPr b="1" lang="da-DK" sz="1800" spc="-1" strike="noStrike">
                <a:solidFill>
                  <a:srgbClr val="0070c0"/>
                </a:solidFill>
                <a:latin typeface="Courier New"/>
                <a:ea typeface="Courier New"/>
              </a:rPr>
              <a:t>"p4"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 from=</a:t>
            </a:r>
            <a:r>
              <a:rPr b="1" lang="da-DK" sz="1800" spc="-1" strike="noStrike">
                <a:solidFill>
                  <a:srgbClr val="0070c0"/>
                </a:solidFill>
                <a:latin typeface="Courier New"/>
                <a:ea typeface="Courier New"/>
              </a:rPr>
              <a:t>"#t4"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&gt;    </a:t>
            </a:r>
            <a:r>
              <a:rPr b="1" lang="da-DK" sz="1800" spc="-1" strike="noStrike">
                <a:solidFill>
                  <a:srgbClr val="002060"/>
                </a:solidFill>
                <a:latin typeface="Courier New"/>
                <a:ea typeface="Courier New"/>
              </a:rPr>
              <a:t>PRON_PERS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 &lt;/</a:t>
            </a:r>
            <a:r>
              <a:rPr b="1" lang="da-DK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span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&lt;/</a:t>
            </a:r>
            <a:r>
              <a:rPr b="1" lang="da-DK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spanGrp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Udfyldt blanket 9"/>
          <p:cNvSpPr/>
          <p:nvPr/>
        </p:nvSpPr>
        <p:spPr>
          <a:xfrm>
            <a:off x="928800" y="4000680"/>
            <a:ext cx="7429320" cy="257148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Afrundet rektangel 6"/>
          <p:cNvSpPr/>
          <p:nvPr/>
        </p:nvSpPr>
        <p:spPr>
          <a:xfrm>
            <a:off x="1000080" y="1071720"/>
            <a:ext cx="7286760" cy="2643120"/>
          </a:xfrm>
          <a:prstGeom prst="roundRect">
            <a:avLst>
              <a:gd name="adj" fmla="val 1666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dsholder til sidefod 3"/>
          <p:cNvSpPr/>
          <p:nvPr/>
        </p:nvSpPr>
        <p:spPr>
          <a:xfrm>
            <a:off x="2556000" y="-3240"/>
            <a:ext cx="65516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8f8f8"/>
                </a:solidFill>
                <a:latin typeface="Verdana"/>
              </a:rPr>
              <a:t>DK-CLARIN stormøde 7. okt. 2009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928440" y="4357800"/>
            <a:ext cx="7429320" cy="22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&lt;</a:t>
            </a:r>
            <a:r>
              <a:rPr b="1" lang="da-DK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spanGrp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 ana</a:t>
            </a:r>
            <a:r>
              <a:rPr b="1" lang="da-DK" sz="1800" spc="-1" strike="noStrike">
                <a:solidFill>
                  <a:srgbClr val="002060"/>
                </a:solidFill>
                <a:latin typeface="Courier New"/>
                <a:ea typeface="Courier New"/>
              </a:rPr>
              <a:t>=</a:t>
            </a:r>
            <a:r>
              <a:rPr b="1" lang="da-DK" sz="1800" spc="-1" strike="noStrike">
                <a:solidFill>
                  <a:srgbClr val="0070c0"/>
                </a:solidFill>
                <a:latin typeface="Courier New"/>
                <a:ea typeface="Courier New"/>
              </a:rPr>
              <a:t>"#lemma"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    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&lt;</a:t>
            </a:r>
            <a:r>
              <a:rPr b="1" lang="da-DK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span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 xml:id=</a:t>
            </a:r>
            <a:r>
              <a:rPr b="1" lang="da-DK" sz="1800" spc="-1" strike="noStrike">
                <a:solidFill>
                  <a:srgbClr val="0070c0"/>
                </a:solidFill>
                <a:latin typeface="Courier New"/>
                <a:ea typeface="Courier New"/>
              </a:rPr>
              <a:t>"L1"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 from</a:t>
            </a:r>
            <a:r>
              <a:rPr b="1" lang="da-DK" sz="1800" spc="-1" strike="noStrike">
                <a:solidFill>
                  <a:srgbClr val="0070c0"/>
                </a:solidFill>
                <a:latin typeface="Courier New"/>
                <a:ea typeface="Courier New"/>
              </a:rPr>
              <a:t>="#t1"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&gt;  </a:t>
            </a:r>
            <a:r>
              <a:rPr b="1" lang="da-DK" sz="1800" spc="-1" strike="noStrike">
                <a:solidFill>
                  <a:srgbClr val="002060"/>
                </a:solidFill>
                <a:latin typeface="Courier New"/>
                <a:ea typeface="Courier New"/>
              </a:rPr>
              <a:t>storm 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     &lt;/</a:t>
            </a:r>
            <a:r>
              <a:rPr b="1" lang="da-DK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span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&lt;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span</a:t>
            </a:r>
            <a:r>
              <a:rPr b="1" lang="en-US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 xml:id=</a:t>
            </a:r>
            <a:r>
              <a:rPr b="1" lang="en-US" sz="1800" spc="-1" strike="noStrike">
                <a:solidFill>
                  <a:srgbClr val="0070c0"/>
                </a:solidFill>
                <a:latin typeface="Courier New"/>
                <a:ea typeface="Courier New"/>
              </a:rPr>
              <a:t>"L2"</a:t>
            </a:r>
            <a:r>
              <a:rPr b="1" lang="en-US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 from=</a:t>
            </a:r>
            <a:r>
              <a:rPr b="1" lang="en-US" sz="1800" spc="-1" strike="noStrike">
                <a:solidFill>
                  <a:srgbClr val="0070c0"/>
                </a:solidFill>
                <a:latin typeface="Courier New"/>
                <a:ea typeface="Courier New"/>
              </a:rPr>
              <a:t>"#t2"</a:t>
            </a:r>
            <a:r>
              <a:rPr b="1" lang="en-US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&gt;  </a:t>
            </a:r>
            <a:r>
              <a:rPr b="1" lang="en-US" sz="1800" spc="-1" strike="noStrike">
                <a:solidFill>
                  <a:srgbClr val="002060"/>
                </a:solidFill>
                <a:latin typeface="Courier New"/>
                <a:ea typeface="Courier New"/>
              </a:rPr>
              <a:t>have</a:t>
            </a:r>
            <a:r>
              <a:rPr b="1" lang="en-US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       &lt;/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span</a:t>
            </a:r>
            <a:r>
              <a:rPr b="1" lang="en-US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    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&lt;</a:t>
            </a:r>
            <a:r>
              <a:rPr b="1" lang="da-DK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span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 xml:id=</a:t>
            </a:r>
            <a:r>
              <a:rPr b="1" lang="da-DK" sz="1800" spc="-1" strike="noStrike">
                <a:solidFill>
                  <a:srgbClr val="0070c0"/>
                </a:solidFill>
                <a:latin typeface="Courier New"/>
                <a:ea typeface="Courier New"/>
              </a:rPr>
              <a:t>"L3"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 from=</a:t>
            </a:r>
            <a:r>
              <a:rPr b="1" lang="da-DK" sz="1800" spc="-1" strike="noStrike">
                <a:solidFill>
                  <a:srgbClr val="0070c0"/>
                </a:solidFill>
                <a:latin typeface="Courier New"/>
                <a:ea typeface="Courier New"/>
              </a:rPr>
              <a:t>"#t3"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&gt;  </a:t>
            </a:r>
            <a:r>
              <a:rPr b="1" lang="da-DK" sz="1800" spc="-1" strike="noStrike">
                <a:solidFill>
                  <a:srgbClr val="002060"/>
                </a:solidFill>
                <a:latin typeface="Courier New"/>
                <a:ea typeface="Courier New"/>
              </a:rPr>
              <a:t>lægge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      &lt;/</a:t>
            </a:r>
            <a:r>
              <a:rPr b="1" lang="da-DK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span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    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&lt;</a:t>
            </a:r>
            <a:r>
              <a:rPr b="1" lang="da-DK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span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 xml:id=</a:t>
            </a:r>
            <a:r>
              <a:rPr b="1" lang="da-DK" sz="1800" spc="-1" strike="noStrike">
                <a:solidFill>
                  <a:srgbClr val="0070c0"/>
                </a:solidFill>
                <a:latin typeface="Courier New"/>
                <a:ea typeface="Courier New"/>
              </a:rPr>
              <a:t>"L4"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 from=</a:t>
            </a:r>
            <a:r>
              <a:rPr b="1" lang="da-DK" sz="1800" spc="-1" strike="noStrike">
                <a:solidFill>
                  <a:srgbClr val="0070c0"/>
                </a:solidFill>
                <a:latin typeface="Courier New"/>
                <a:ea typeface="Courier New"/>
              </a:rPr>
              <a:t>"#t4"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&gt;  </a:t>
            </a:r>
            <a:r>
              <a:rPr b="1" lang="da-DK" sz="1800" spc="-1" strike="noStrike">
                <a:solidFill>
                  <a:srgbClr val="002060"/>
                </a:solidFill>
                <a:latin typeface="Courier New"/>
                <a:ea typeface="Courier New"/>
              </a:rPr>
              <a:t>sig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        &lt;/</a:t>
            </a:r>
            <a:r>
              <a:rPr b="1" lang="da-DK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span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&lt;/</a:t>
            </a:r>
            <a:r>
              <a:rPr b="1" lang="da-DK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spanGrp</a:t>
            </a:r>
            <a:r>
              <a:rPr b="1" lang="da-DK" sz="1800" spc="-1" strike="noStrike">
                <a:solidFill>
                  <a:srgbClr val="6e6e6e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928800" y="4011480"/>
            <a:ext cx="799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6e6e6e"/>
                </a:solidFill>
                <a:latin typeface="Verdana"/>
                <a:ea typeface="Courier New"/>
              </a:rPr>
              <a:t>Output: lemmatiser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Afrundet rektangel 8"/>
          <p:cNvSpPr/>
          <p:nvPr/>
        </p:nvSpPr>
        <p:spPr>
          <a:xfrm>
            <a:off x="1143000" y="2143080"/>
            <a:ext cx="6786720" cy="714600"/>
          </a:xfrm>
          <a:prstGeom prst="roundRect">
            <a:avLst>
              <a:gd name="adj" fmla="val 16667"/>
            </a:avLst>
          </a:prstGeom>
          <a:solidFill>
            <a:srgbClr val="365a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928800" y="431280"/>
            <a:ext cx="799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65aa5"/>
                </a:solidFill>
                <a:latin typeface="Verdana"/>
              </a:rPr>
              <a:t>Eksempel: lemmatisér ressourc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857160" y="1285920"/>
            <a:ext cx="7429680" cy="22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  <a:ea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  <a:ea typeface="Courier New"/>
              </a:rPr>
              <a:t>Flet ressource+annotation sammen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a-DK" sz="1400" spc="-1" strike="noStrike">
                <a:solidFill>
                  <a:srgbClr val="002060"/>
                </a:solidFill>
                <a:latin typeface="Courier New"/>
                <a:ea typeface="Courier New"/>
              </a:rPr>
              <a:t>      </a:t>
            </a:r>
            <a:r>
              <a:rPr b="1" lang="da-DK" sz="1400" spc="-1" strike="noStrike">
                <a:solidFill>
                  <a:srgbClr val="002060"/>
                </a:solidFill>
                <a:latin typeface="Courier New"/>
                <a:ea typeface="Courier New"/>
              </a:rPr>
              <a:t>stormen/N_DEF_SING har/V_PRES lagt/V_PARTC_PAST sig/PRON_PERS</a:t>
            </a:r>
            <a:r>
              <a:rPr b="0" lang="da-DK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Verdana"/>
                <a:ea typeface="Courier New"/>
              </a:rPr>
              <a:t>    </a:t>
            </a:r>
            <a:r>
              <a:rPr b="0" lang="da-DK" sz="1600" spc="-1" strike="noStrike">
                <a:solidFill>
                  <a:srgbClr val="ffffff"/>
                </a:solidFill>
                <a:latin typeface="Verdana"/>
                <a:ea typeface="Courier New"/>
              </a:rPr>
              <a:t>Lav ny annotation: lemmatise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a-DK" sz="1400" spc="-1" strike="noStrike">
                <a:solidFill>
                  <a:srgbClr val="002060"/>
                </a:solidFill>
                <a:latin typeface="Courier New"/>
                <a:ea typeface="Courier New"/>
              </a:rPr>
              <a:t>      </a:t>
            </a:r>
            <a:r>
              <a:rPr b="1" lang="da-DK" sz="1400" spc="-1" strike="noStrike">
                <a:solidFill>
                  <a:srgbClr val="002060"/>
                </a:solidFill>
                <a:latin typeface="Courier New"/>
                <a:ea typeface="Courier New"/>
              </a:rPr>
              <a:t>stormen:storm      har:have   lagt:lægge        sig:sig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a-DK" sz="1600" spc="-1" strike="noStrike">
                <a:solidFill>
                  <a:srgbClr val="6e6e6e"/>
                </a:solidFill>
                <a:latin typeface="Verdana"/>
                <a:ea typeface="Courier New"/>
              </a:rPr>
              <a:t>    </a:t>
            </a:r>
            <a:r>
              <a:rPr b="0" lang="da-DK" sz="1600" spc="-1" strike="noStrike">
                <a:solidFill>
                  <a:srgbClr val="ffffff"/>
                </a:solidFill>
                <a:latin typeface="Verdana"/>
                <a:ea typeface="Courier New"/>
              </a:rPr>
              <a:t>Separer ny annotation fra ressource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a-DK" sz="1600" spc="-1" strike="noStrike">
                <a:solidFill>
                  <a:srgbClr val="002060"/>
                </a:solidFill>
                <a:latin typeface="Courier New"/>
                <a:ea typeface="Courier New"/>
              </a:rPr>
              <a:t>            </a:t>
            </a:r>
            <a:r>
              <a:rPr b="1" lang="da-DK" sz="1400" spc="-1" strike="noStrike">
                <a:solidFill>
                  <a:srgbClr val="002060"/>
                </a:solidFill>
                <a:latin typeface="Courier New"/>
                <a:ea typeface="Courier New"/>
              </a:rPr>
              <a:t>storm          have        lægge            sig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dsholder til sidefod 3"/>
          <p:cNvSpPr/>
          <p:nvPr/>
        </p:nvSpPr>
        <p:spPr>
          <a:xfrm>
            <a:off x="2556000" y="-3240"/>
            <a:ext cx="65516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8f8f8"/>
                </a:solidFill>
                <a:latin typeface="Verdana"/>
              </a:rPr>
              <a:t>DK-CLARIN stormøde 7. okt. 2009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28440" y="428400"/>
            <a:ext cx="7993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65aa5"/>
                </a:solidFill>
                <a:latin typeface="Verdana"/>
              </a:rPr>
              <a:t>Integration af værktøjer - status  </a:t>
            </a: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28440" y="1357200"/>
            <a:ext cx="7000920" cy="45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1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a-DK" sz="1800" spc="-1" strike="noStrike">
                <a:solidFill>
                  <a:srgbClr val="6e6e6e"/>
                </a:solidFill>
                <a:latin typeface="Verdana"/>
              </a:rPr>
              <a:t>Prototypen på lemmatizeren som web-service kan ses i drift på </a:t>
            </a:r>
            <a:r>
              <a:rPr b="0" lang="da-DK" sz="1800" spc="-1" strike="noStrike" u="sng">
                <a:solidFill>
                  <a:srgbClr val="6e6e6e"/>
                </a:solidFill>
                <a:uFillTx/>
                <a:latin typeface="Verdana"/>
              </a:rPr>
              <a:t>http://cst.dk/bart/php/example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lvl="1" marL="741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lvl="1" marL="741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lvl="1" marL="741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lvl="1" marL="741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a-DK" sz="1800" spc="-1" strike="noStrike">
                <a:solidFill>
                  <a:srgbClr val="6e6e6e"/>
                </a:solidFill>
                <a:latin typeface="Verdana"/>
              </a:rPr>
              <a:t>WP5 arbejder videre med web-grænsefladespecifikation Dernæst skal de enkelte partnere specificere deres web-services. 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lvl="1" marL="741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lvl="1" marL="741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a-DK" sz="1800" spc="-1" strike="noStrike">
                <a:solidFill>
                  <a:srgbClr val="6e6e6e"/>
                </a:solidFill>
                <a:latin typeface="Verdana"/>
              </a:rPr>
              <a:t>Planen er at WP5.2 inviterer til et møde om web-service-integration ultimo november.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lvl="1" marL="741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lvl="1" marL="741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a-DK" sz="1800" spc="-1" strike="noStrike">
                <a:solidFill>
                  <a:srgbClr val="6e6e6e"/>
                </a:solidFill>
                <a:latin typeface="Verdana"/>
              </a:rPr>
              <a:t>Derefter specificeres integrationen af de enkelte web-services af de enkelte partnere</a:t>
            </a: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6e6e6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28800" y="428400"/>
            <a:ext cx="58896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a-DK" sz="2000" spc="-1" strike="noStrike">
                <a:solidFill>
                  <a:srgbClr val="365aa5"/>
                </a:solidFill>
                <a:latin typeface="Verdana"/>
              </a:rPr>
              <a:t>Opsummering</a:t>
            </a: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42640" y="1285560"/>
            <a:ext cx="6429240" cy="37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600" spc="-1" strike="noStrike">
                <a:solidFill>
                  <a:srgbClr val="6e6e6e"/>
                </a:solidFill>
                <a:latin typeface="Verdana"/>
              </a:rPr>
              <a:t>Der arbejdes videre på metadata-specifikationen for værktøjer parallelt med web-service-arbejdet.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600" spc="-1" strike="noStrike">
                <a:solidFill>
                  <a:srgbClr val="6e6e6e"/>
                </a:solidFill>
                <a:latin typeface="Verdana"/>
              </a:rPr>
              <a:t>Feedback på metadata-specifikation ønskes i oktober.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600" spc="-1" strike="noStrike">
                <a:solidFill>
                  <a:srgbClr val="6e6e6e"/>
                </a:solidFill>
                <a:latin typeface="Verdana"/>
              </a:rPr>
              <a:t>Information om eksisterende ressoucer eller værktøjer som ønskes integreret i DK-CLARIN modtages gerne, også fra eksterne partnere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a-DK" sz="1600" spc="-1" strike="noStrike">
                <a:solidFill>
                  <a:srgbClr val="6e6e6e"/>
                </a:solidFill>
                <a:latin typeface="Verdana"/>
              </a:rPr>
              <a:t>Ultimo 2009 justeres arbejdsplanen for WP5.2, herunder planer for </a:t>
            </a:r>
            <a:r>
              <a:rPr b="1" lang="da-DK" sz="1600" spc="-1" strike="noStrike">
                <a:solidFill>
                  <a:srgbClr val="6e6e6e"/>
                </a:solidFill>
                <a:latin typeface="Verdana"/>
              </a:rPr>
              <a:t>prioritering</a:t>
            </a:r>
            <a:r>
              <a:rPr b="0" lang="da-DK" sz="1600" spc="-1" strike="noStrike">
                <a:solidFill>
                  <a:srgbClr val="6e6e6e"/>
                </a:solidFill>
                <a:latin typeface="Verdana"/>
              </a:rPr>
              <a:t> af integration af eksisterende ressourcer og web-services, samt prioritering af ekstra værktøjer som kunne være nice-to-have.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169" name="Pladsholder til sidefod 3"/>
          <p:cNvSpPr/>
          <p:nvPr/>
        </p:nvSpPr>
        <p:spPr>
          <a:xfrm>
            <a:off x="2556000" y="-3240"/>
            <a:ext cx="65516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8f8f8"/>
                </a:solidFill>
                <a:latin typeface="Verdana"/>
              </a:rPr>
              <a:t>DK-CLARIN stormøde 7. okt. 2009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dsholder til sidefod 3"/>
          <p:cNvSpPr/>
          <p:nvPr/>
        </p:nvSpPr>
        <p:spPr>
          <a:xfrm>
            <a:off x="2556000" y="-3240"/>
            <a:ext cx="65516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8f8f8"/>
                </a:solidFill>
                <a:latin typeface="Verdana"/>
              </a:rPr>
              <a:t>DK-CLARIN stormøde 7. okt. 2009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28440" y="428400"/>
            <a:ext cx="7993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65aa5"/>
                </a:solidFill>
                <a:latin typeface="Verdana"/>
              </a:rPr>
              <a:t>Overblik</a:t>
            </a: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28440" y="1356840"/>
            <a:ext cx="7000920" cy="53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6e6e6e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6e6e6e"/>
              </a:buClr>
              <a:buFont typeface="Verdana"/>
              <a:buChar char="-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Vores definition af metadata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6e6e6e"/>
              </a:buClr>
              <a:buFont typeface="Verdana"/>
              <a:buChar char="-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Udfordring: mange anvendelser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6e6e6e"/>
              </a:buClr>
              <a:buFont typeface="Verdana"/>
              <a:buChar char="-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Metadata, typer af metadata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6e6e6e"/>
              </a:buClr>
              <a:buFont typeface="Verdana"/>
              <a:buChar char="-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Status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6e6e6e"/>
                </a:solidFill>
                <a:latin typeface="Verdana"/>
              </a:rPr>
              <a:t>Ressourcetyper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6e6e6e"/>
              </a:buClr>
              <a:buFont typeface="Verdana"/>
              <a:buChar char="-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Oversigt over ressourcetyper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6e6e6e"/>
              </a:buClr>
              <a:buFont typeface="Verdana"/>
              <a:buChar char="-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Formater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6e6e6e"/>
              </a:buClr>
              <a:buFont typeface="Verdana"/>
              <a:buChar char="-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Status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6e6e6e"/>
                </a:solidFill>
                <a:latin typeface="Verdana"/>
              </a:rPr>
              <a:t>Værktøjer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6e6e6e"/>
              </a:buClr>
              <a:buFont typeface="Verdana"/>
              <a:buChar char="-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Eksterne og integrerede værktøjer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6e6e6e"/>
              </a:buClr>
              <a:buFont typeface="Verdana"/>
              <a:buChar char="-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Integration af værktøjer: web-services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6e6e6e"/>
              </a:buClr>
              <a:buFont typeface="Verdana"/>
              <a:buChar char="-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Eksempel og status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6e6e6e"/>
                </a:solidFill>
                <a:latin typeface="Verdana"/>
              </a:rPr>
              <a:t>Opsummering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dsholder til sidefod 3"/>
          <p:cNvSpPr/>
          <p:nvPr/>
        </p:nvSpPr>
        <p:spPr>
          <a:xfrm>
            <a:off x="2556000" y="-3240"/>
            <a:ext cx="65516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8f8f8"/>
                </a:solidFill>
                <a:latin typeface="Verdana"/>
              </a:rPr>
              <a:t>DK-CLARIN stormøde 7. okt. 2009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28440" y="428400"/>
            <a:ext cx="7993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65aa5"/>
                </a:solidFill>
                <a:latin typeface="Verdana"/>
              </a:rPr>
              <a:t>Metadata</a:t>
            </a: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28440" y="1356840"/>
            <a:ext cx="7000920" cy="35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DK-CLARIN Metadata: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6e6e6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Beskrivende og administrative 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6e6e6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Annoteringer er IKKE metadata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Metadata har flere funktioner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6e6e6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beskrive ressourcen ved import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6e6e6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bruges i søgning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6e6e6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beskrive ressourcen ved eksport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6e6e6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beskrive relationer til andre ressourcer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dsholder til sidefod 3"/>
          <p:cNvSpPr/>
          <p:nvPr/>
        </p:nvSpPr>
        <p:spPr>
          <a:xfrm>
            <a:off x="2556000" y="-3240"/>
            <a:ext cx="65516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8f8f8"/>
                </a:solidFill>
                <a:latin typeface="Verdana"/>
              </a:rPr>
              <a:t>DK-CLARIN stormøde 7. okt. 2009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28440" y="428400"/>
            <a:ext cx="7993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65aa5"/>
                </a:solidFill>
                <a:latin typeface="Verdana"/>
              </a:rPr>
              <a:t>Metadata: udfordringer</a:t>
            </a: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28440" y="1357200"/>
            <a:ext cx="7000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Forskellige ressourcer har mulighed for forskellige metadata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Forskellige brugere er interesseret i forskellige metadata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Gerne en så ensartet tilgang til ressourcer som muligt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Opdele ressourcerne i forskellige typer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Generelle metadata, heraf  er nogle obligatoriske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Typespecifikke metadata, heraf kan nogle være obligatoriske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Brug af standarder (og de facto standarder) hvis muligt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  <p:sp>
        <p:nvSpPr>
          <p:cNvPr id="109" name="Nedadgående pil 4"/>
          <p:cNvSpPr/>
          <p:nvPr/>
        </p:nvSpPr>
        <p:spPr>
          <a:xfrm>
            <a:off x="1000080" y="2643120"/>
            <a:ext cx="285840" cy="35712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dsholder til sidefod 3"/>
          <p:cNvSpPr/>
          <p:nvPr/>
        </p:nvSpPr>
        <p:spPr>
          <a:xfrm>
            <a:off x="2556000" y="-3240"/>
            <a:ext cx="65516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8f8f8"/>
                </a:solidFill>
                <a:latin typeface="Verdana"/>
              </a:rPr>
              <a:t>DK-CLARIN stormøde 7. okt. 2009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28440" y="428400"/>
            <a:ext cx="7993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65aa5"/>
                </a:solidFill>
                <a:latin typeface="Verdana"/>
              </a:rPr>
              <a:t>Generelle obligatoriske metadata</a:t>
            </a: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28440" y="1356840"/>
            <a:ext cx="700092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Generelle metadata med udgangspunkt i Dublin Core-standarden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a-DK" sz="1600" spc="-1" strike="noStrike">
                <a:solidFill>
                  <a:srgbClr val="6e6e6e"/>
                </a:solidFill>
                <a:latin typeface="Verdana"/>
              </a:rPr>
              <a:t>Dublin Core Metadata Initiative</a:t>
            </a: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 (DCMI):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a-DK" sz="1600" spc="-1" strike="noStrike">
                <a:solidFill>
                  <a:srgbClr val="6e6e6e"/>
                </a:solidFill>
                <a:latin typeface="Verdana"/>
              </a:rPr>
              <a:t>Dublin Core Metadata Element Set – 15 kerneelementer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a-DK" sz="1600" spc="-1" strike="noStrike">
                <a:solidFill>
                  <a:srgbClr val="6e6e6e"/>
                </a:solidFill>
                <a:latin typeface="Verdana"/>
              </a:rPr>
              <a:t>Udvidelse med DCMI Metadata Terms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a-DK" sz="1600" spc="-1" strike="noStrike">
                <a:solidFill>
                  <a:srgbClr val="6e6e6e"/>
                </a:solidFill>
                <a:latin typeface="Verdana"/>
              </a:rPr>
              <a:t>Metadatahøstning vha. OAI-PMH-protokollen benytter også DC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a-DK" sz="1600" spc="-1" strike="noStrike">
                <a:solidFill>
                  <a:srgbClr val="6e6e6e"/>
                </a:solidFill>
                <a:latin typeface="Verdana"/>
              </a:rPr>
              <a:t>Generelle obligatoriske metadataelementer ved import :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00"/>
              </a:spcBef>
              <a:buClr>
                <a:srgbClr val="6e6e6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Type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00"/>
              </a:spcBef>
              <a:buClr>
                <a:srgbClr val="6e6e6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Title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00"/>
              </a:spcBef>
              <a:buClr>
                <a:srgbClr val="6e6e6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Language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00"/>
              </a:spcBef>
              <a:buClr>
                <a:srgbClr val="6e6e6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Format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00"/>
              </a:spcBef>
              <a:buClr>
                <a:srgbClr val="6e6e6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Publisher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00"/>
              </a:spcBef>
              <a:buClr>
                <a:srgbClr val="6e6e6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PublicationDate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00"/>
              </a:spcBef>
              <a:buClr>
                <a:srgbClr val="6e6e6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Rights(license)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00"/>
              </a:spcBef>
              <a:buClr>
                <a:srgbClr val="6e6e6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Context(accessRights)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Repositoriet tilføjer desuden nogle metadata, bl.a. PID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dsholder til sidefod 3"/>
          <p:cNvSpPr/>
          <p:nvPr/>
        </p:nvSpPr>
        <p:spPr>
          <a:xfrm>
            <a:off x="2556000" y="-3240"/>
            <a:ext cx="65516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8f8f8"/>
                </a:solidFill>
                <a:latin typeface="Verdana"/>
              </a:rPr>
              <a:t>DK-CLARIN stormøde 7. okt. 2009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28440" y="428400"/>
            <a:ext cx="7993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65aa5"/>
                </a:solidFill>
                <a:latin typeface="Verdana"/>
              </a:rPr>
              <a:t>Optionelle generelle metadata</a:t>
            </a: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28440" y="1357200"/>
            <a:ext cx="7000920" cy="29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a-DK" sz="1600" spc="-1" strike="noStrike">
                <a:solidFill>
                  <a:srgbClr val="6e6e6e"/>
                </a:solidFill>
                <a:latin typeface="Verdana"/>
              </a:rPr>
              <a:t>Optionelle generelle metadataelementer, bl.a: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00"/>
              </a:spcBef>
              <a:buClr>
                <a:srgbClr val="6e6e6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a-DK" sz="1600" spc="-1" strike="noStrike">
                <a:solidFill>
                  <a:srgbClr val="6e6e6e"/>
                </a:solidFill>
                <a:latin typeface="Verdana"/>
              </a:rPr>
              <a:t>Creator(forfatter/værktøj)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00"/>
              </a:spcBef>
              <a:buClr>
                <a:srgbClr val="6e6e6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a-DK" sz="1600" spc="-1" strike="noStrike">
                <a:solidFill>
                  <a:srgbClr val="6e6e6e"/>
                </a:solidFill>
                <a:latin typeface="Verdana"/>
              </a:rPr>
              <a:t>Description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00"/>
              </a:spcBef>
              <a:buClr>
                <a:srgbClr val="6e6e6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Source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00"/>
              </a:spcBef>
              <a:buClr>
                <a:srgbClr val="6e6e6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HasVersion (relation)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00"/>
              </a:spcBef>
              <a:buClr>
                <a:srgbClr val="6e6e6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ConformsTo(fx link til xml-schema)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00"/>
              </a:spcBef>
              <a:buClr>
                <a:srgbClr val="6e6e6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InfoAbout (link til dokumentation)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00"/>
              </a:spcBef>
              <a:buNone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Kraftig anbefaling om at udfylde ‘Creator’ og ‘Description’ 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For visse ressourcetyper er de obligatoriske!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dsholder til sidefod 3"/>
          <p:cNvSpPr/>
          <p:nvPr/>
        </p:nvSpPr>
        <p:spPr>
          <a:xfrm>
            <a:off x="2556000" y="-3240"/>
            <a:ext cx="65516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8f8f8"/>
                </a:solidFill>
                <a:latin typeface="Verdana"/>
              </a:rPr>
              <a:t>DK-CLARIN stormøde 7. okt. 2009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28440" y="428400"/>
            <a:ext cx="7993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65aa5"/>
                </a:solidFill>
                <a:latin typeface="Verdana"/>
              </a:rPr>
              <a:t>Ressourcespecifikke metadata</a:t>
            </a: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28440" y="1357200"/>
            <a:ext cx="7000920" cy="40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Hver ressourcetype kan have sine særlige metadata-elementer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Som en del af WP5.2 har hver arbejdspakke  selv ansvaret for at fastlægge disse metadata.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Fx har WP2 valgt at definere metadata for tekster vha. et uddrag af Text Encoding Initiative Standarden TEI-P5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Standard” i DK-CLARIN: TEI-P5-WP2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Specifikation af metadata i flere detaljer: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Se også </a:t>
            </a:r>
            <a:r>
              <a:rPr b="0" lang="en-GB" sz="1600" spc="-1" strike="noStrike">
                <a:solidFill>
                  <a:srgbClr val="365aa5"/>
                </a:solidFill>
                <a:latin typeface="Verdana"/>
              </a:rPr>
              <a:t>http://www.cst.dk/dk-clarin/?q=WP5.2_task5_metadata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dsholder til sidefod 3"/>
          <p:cNvSpPr/>
          <p:nvPr/>
        </p:nvSpPr>
        <p:spPr>
          <a:xfrm>
            <a:off x="2556000" y="-3240"/>
            <a:ext cx="65516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8f8f8"/>
                </a:solidFill>
                <a:latin typeface="Verdana"/>
              </a:rPr>
              <a:t>DK-CLARIN stormøde 7. okt. 2009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9720" y="500040"/>
            <a:ext cx="7993080" cy="3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65aa5"/>
                </a:solidFill>
                <a:latin typeface="Verdana"/>
              </a:rPr>
              <a:t>Metadata – status</a:t>
            </a: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28800" y="1557000"/>
            <a:ext cx="750096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WP2 har opnået enighed om metadata for WP2-tekster i TEI-P5 format. Justering af værdier for metadatafelter i gang.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WP4 har opnået enighed om metadata-elementer, metadata specificeres på ordbogsniveau. Primært genbrug af EU-CLARIN metadata-elementer vedr. Leksika.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Metadata for værktøjer(WP5.2): Der skal foretages justeringer i nuværende specifikation for at komme tættere på EU-CLARIN (NEERI’09)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EU-CLARIN promoverer ISOcat: Data Category Registry (</a:t>
            </a: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ISO 12620)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De fleste metadata-elementer i DK-CLARIN vil komme/er allerede i ISOcat. Vi overvejer om vi skal sætte de resterende ind.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EU-CLARIN får mulighed for at høste DK-CLARIN’s metadata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6e6e6e"/>
                </a:solidFill>
                <a:latin typeface="Verdana"/>
              </a:rPr>
              <a:t>vha. OAI-PMH-protokollen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dsholder til sidefod 3"/>
          <p:cNvSpPr/>
          <p:nvPr/>
        </p:nvSpPr>
        <p:spPr>
          <a:xfrm>
            <a:off x="2556000" y="-3240"/>
            <a:ext cx="65516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8f8f8"/>
                </a:solidFill>
                <a:latin typeface="Verdana"/>
              </a:rPr>
              <a:t>DK-CLARIN stormøde 7. okt. 2009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9720" y="500040"/>
            <a:ext cx="7993080" cy="3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65aa5"/>
                </a:solidFill>
                <a:latin typeface="Verdana"/>
              </a:rPr>
              <a:t>Ressourcetyper</a:t>
            </a:r>
            <a:endParaRPr b="0" lang="en-US" sz="2000" spc="-1" strike="noStrike">
              <a:solidFill>
                <a:srgbClr val="365aa5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00080" y="1571760"/>
            <a:ext cx="7500960" cy="48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Siden sidste stormøde har vi arbejdet med definition af DK-CLARINs ressourcetyper og –formater.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Basisressourcer: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6e6e6e"/>
                </a:solidFill>
                <a:latin typeface="Verdana"/>
              </a:rPr>
              <a:t>Tekst, Lyd, Video, Billede, Leksikon, Data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Annotationsressourcer: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6e6e6e"/>
                </a:solidFill>
                <a:latin typeface="Verdana"/>
              </a:rPr>
              <a:t>Tekstannotation, Lydannotationer, Videoannoteringer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Samlinger: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6e6e6e"/>
                </a:solidFill>
                <a:latin typeface="Verdana"/>
              </a:rPr>
              <a:t>Homogene samlinger</a:t>
            </a: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: fx tekstsamling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6e6e6e"/>
                </a:solidFill>
                <a:latin typeface="Verdana"/>
              </a:rPr>
              <a:t>Heterogene samlinger</a:t>
            </a: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: fx en video og de annoteringsressourcer, der hører til denne video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6e6e6e"/>
                </a:solidFill>
                <a:latin typeface="Verdana"/>
              </a:rPr>
              <a:t>Se oversigt i afsnit 2.5 i kravsspecifikationen: http://cst.dk/dk-clarin/files/Clarin%20kravspec%20051009.doc</a:t>
            </a: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  <a:p>
            <a:pPr marL="341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6e6e6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eo</cp:lastModifiedBy>
  <dcterms:modified xsi:type="dcterms:W3CDTF">2009-10-07T07:24:54Z</dcterms:modified>
  <cp:revision>159</cp:revision>
  <dc:subject/>
  <dc:title>Lene Offersgaard, Bente Maegaard  Center for Sprogteknologi, Københavns Universitet loff@cst.dk, bente@cst.dk</dc:title>
</cp:coreProperties>
</file>