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BEE7-F652-4577-873E-A2C6AC562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0B1E-EC08-4A12-AD4D-154833C9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3540-4C63-4D45-9AFA-67B77FD62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A70D-CD09-4CF8-83CA-594F72C1F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5AE0-D974-4B22-A143-01A4D902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B30A-D1F3-4B4B-8564-8B503D90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56D1-D60E-41C4-BA1F-E0D507F4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510B-ADF0-4798-92AD-40166499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7A72-7B60-4244-9A18-30CD0029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9367-8565-4942-BBAE-4D39CCC1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3A96-B54A-414E-8036-2B30563B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29CD-5D9C-48D7-AF0B-8018624E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17F3-626A-49AC-A310-08BFDD0B0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DL200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ers Conr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gtige/interessante em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3200" spc="-1" strike="noStrike">
                <a:solidFill>
                  <a:srgbClr val="000000"/>
                </a:solidFill>
                <a:latin typeface="Times New Roman"/>
              </a:rPr>
              <a:t>Digital curation and workflows</a:t>
            </a:r>
            <a:r>
              <a:rPr b="0" lang="da-DK" sz="3200" spc="-1" strike="noStrike">
                <a:solidFill>
                  <a:srgbClr val="000000"/>
                </a:solidFill>
                <a:latin typeface="Times New Roman"/>
              </a:rPr>
              <a:t> (Carol Goble): workflows as ”first class” assets, encapsulation of process, curation of workf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3200" spc="-1" strike="noStrike">
                <a:solidFill>
                  <a:srgbClr val="000000"/>
                </a:solidFill>
                <a:latin typeface="Times New Roman"/>
              </a:rPr>
              <a:t>Marks:</a:t>
            </a:r>
            <a:r>
              <a:rPr b="0" lang="da-DK" sz="3200" spc="-1" strike="noStrike">
                <a:solidFill>
                  <a:srgbClr val="000000"/>
                </a:solidFill>
                <a:latin typeface="Times New Roman"/>
              </a:rPr>
              <a:t> representing and curating sub-documents in a digital libr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3200" spc="-1" strike="noStrike">
                <a:solidFill>
                  <a:srgbClr val="000000"/>
                </a:solidFill>
                <a:latin typeface="Times New Roman"/>
              </a:rPr>
              <a:t>e-Infrastructures,</a:t>
            </a:r>
            <a:r>
              <a:rPr b="0" lang="da-DK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da-DK" sz="3200" spc="-1" strike="noStrike">
                <a:solidFill>
                  <a:srgbClr val="000000"/>
                </a:solidFill>
                <a:latin typeface="Times New Roman"/>
              </a:rPr>
              <a:t>interoperabilitet, e-Sc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Times New Roman"/>
              </a:rPr>
              <a:t>E-infrastrukturer (et svar til Google?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imes New Roman"/>
              </a:rPr>
              <a:t>EU-projekter under 7. rammeprogram: fra prototyper til produk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imes New Roman"/>
              </a:rPr>
              <a:t>D4Science: virtual research environments, bygger på DILIGENT (gCube) og EGEE, understøtter ”scientific communitie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imes New Roman"/>
              </a:rPr>
              <a:t>DRIVER: interoperabel infrastruktur af repositories med slutbruger- og administrative facilit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Times New Roman"/>
              </a:rPr>
              <a:t>Interoperabilit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imes New Roman"/>
              </a:rPr>
              <a:t>DELOS workshop: digitale biblioteker, e-infrastrukturer, brugerperspekt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imes New Roman"/>
              </a:rPr>
              <a:t>Europeana (European Digital Library), EU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imes New Roman"/>
              </a:rPr>
              <a:t>CLARIN (community infrastructure), DRIVER, D4Sc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imes New Roman"/>
              </a:rPr>
              <a:t>Skal slutbrugerresultater indregnes nu, eller er det et 10-20 års projekt ”bag kulisserne”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K-CLARIN i e-infrastruktur landskab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133720"/>
            <a:ext cx="6934320" cy="3581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396252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4191120"/>
            <a:ext cx="4562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Generelle koncepter/produk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DILIGENT, D4Science, Driver, interoperabilitet, e-Science os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213372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67640" y="2286000"/>
            <a:ext cx="554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Communities: fx. lingvistiske        CLAR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0" y="21337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5760" y="29718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165800" y="297180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gitale bibliotek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imes New Roman"/>
              </a:rPr>
              <a:t>DELOS reference model (EU 6. rammeprogra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imes New Roman"/>
              </a:rPr>
              <a:t>Open Access Initi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imes New Roman"/>
              </a:rPr>
              <a:t>OAI-PM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imes New Roman"/>
              </a:rPr>
              <a:t>OAI-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imes New Roman"/>
              </a:rPr>
              <a:t>Forskningstunge institutioner: universiteter og især ISTI-CNR i Pi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imes New Roman"/>
              </a:rPr>
              <a:t>Datalogisk fok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K-CLARIN næste f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imes New Roman"/>
              </a:rPr>
              <a:t>Teknologi: undersøge projekter/software/teknolog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imes New Roman"/>
              </a:rPr>
              <a:t>Brugerværdi/use cases: etablere forskerkontakt (hvilke forskningsspørgsmål skal kunne besvar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imes New Roman"/>
              </a:rPr>
              <a:t>Webgrænsefl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imes New Roman"/>
              </a:rPr>
              <a:t>Indhold: kontakt med øvrige arbejdspak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K-CLARIN næste f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imes New Roman"/>
              </a:rPr>
              <a:t>Arkitektur/specifik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interoperabili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repository/dataform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authentication og autho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søg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identif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m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K-CLARIN næste f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imes New Roman"/>
              </a:rPr>
              <a:t>Etablere samarbejde med EU-CLARIN, WP 2 og 5 (workgroup medlemsska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Times New Roman"/>
              </a:rPr>
              <a:t>Evt. samarbejde med andre projekter/grupperi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4:37:51Z</dcterms:created>
  <dc:creator>Anders Conrad</dc:creator>
  <dc:description/>
  <dc:language>en-US</dc:language>
  <cp:lastModifiedBy>Anders Conrad</cp:lastModifiedBy>
  <dcterms:modified xsi:type="dcterms:W3CDTF">2008-09-24T10:00:26Z</dcterms:modified>
  <cp:revision>9</cp:revision>
  <dc:subject/>
  <dc:title>ECDL2008</dc:title>
</cp:coreProperties>
</file>