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73453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3079-DAEB-4501-A1A5-052056EC85F0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5129-C385-4C44-BA0D-5E723DE54C30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8E7A-96DC-4F76-9AE4-5E9C4B6D0FAB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BD80-0EC4-474A-9833-4BFEE2C0A14F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625B-AAF2-43AB-A480-D813948A6E13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F701-BA72-4E59-B8A0-AC6475CADF3A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7C83-87F2-402B-B682-5FC72E0CB856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7FCE-5E8B-493B-A51E-F177AAFE53AD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0F778-92BD-4BED-AB4B-EE5A110A64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000" y="1412640"/>
            <a:ext cx="7391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000" y="2491920"/>
            <a:ext cx="73911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4000" y="4294440"/>
            <a:ext cx="73911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4DE10-B662-49F8-A806-9D642F6BFC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000" y="1412640"/>
            <a:ext cx="7391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2491920"/>
            <a:ext cx="36068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71560" y="2491920"/>
            <a:ext cx="36068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4000" y="4294440"/>
            <a:ext cx="36068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471560" y="4294440"/>
            <a:ext cx="36068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CBF0D-D0F1-4ED9-97F7-E486D8059D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1412640"/>
            <a:ext cx="7391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000" y="2491920"/>
            <a:ext cx="23796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83120" y="2491920"/>
            <a:ext cx="23796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81880" y="2491920"/>
            <a:ext cx="23796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4000" y="4294440"/>
            <a:ext cx="23796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83120" y="4294440"/>
            <a:ext cx="23796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681880" y="4294440"/>
            <a:ext cx="23796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8EF51-5201-4FD3-B89C-56F225965F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54102-9732-46C3-AA7C-BD9F179F5A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000" y="1412640"/>
            <a:ext cx="7391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4000" y="2491920"/>
            <a:ext cx="73911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FB7AE-F588-4744-93F3-50339600B0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1412640"/>
            <a:ext cx="7391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000" y="2491920"/>
            <a:ext cx="73911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5E590-6CCF-4070-8FA1-CD80F6D761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000" y="1412640"/>
            <a:ext cx="7391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000" y="2491920"/>
            <a:ext cx="36068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471560" y="2491920"/>
            <a:ext cx="36068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4AF47-32AA-4BA3-A523-BABEBBD6C0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000" y="1412640"/>
            <a:ext cx="7391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DB0C1-FFBE-42AB-B3DC-87CD7E5065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4000" y="1412640"/>
            <a:ext cx="739116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8598D-D328-4C8F-9A58-55EA748A4C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000" y="1412640"/>
            <a:ext cx="7391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000" y="2491920"/>
            <a:ext cx="36068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71560" y="2491920"/>
            <a:ext cx="36068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4000" y="4294440"/>
            <a:ext cx="36068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F9CA1-2F41-4902-AFC9-B419F3907E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1412640"/>
            <a:ext cx="7391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4000" y="2491920"/>
            <a:ext cx="73911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EBA5A-E664-4CA9-B816-3C848DB619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000" y="1412640"/>
            <a:ext cx="7391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000" y="2491920"/>
            <a:ext cx="36068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71560" y="2491920"/>
            <a:ext cx="36068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71560" y="4294440"/>
            <a:ext cx="36068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21169-93FB-422C-B5F7-77D69873E8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1412640"/>
            <a:ext cx="7391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2491920"/>
            <a:ext cx="36068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71560" y="2491920"/>
            <a:ext cx="36068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4294440"/>
            <a:ext cx="73911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95D51-36AA-4237-AA03-58573F83AC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000" y="1412640"/>
            <a:ext cx="7391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2491920"/>
            <a:ext cx="73911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4000" y="4294440"/>
            <a:ext cx="73911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9549B-29D9-4021-B78C-19F1D40B08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000" y="1412640"/>
            <a:ext cx="7391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000" y="2491920"/>
            <a:ext cx="36068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71560" y="2491920"/>
            <a:ext cx="36068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000" y="4294440"/>
            <a:ext cx="36068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471560" y="4294440"/>
            <a:ext cx="36068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48A61-5A8C-49BD-8CAC-555D787E61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000" y="1412640"/>
            <a:ext cx="7391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2491920"/>
            <a:ext cx="23796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83120" y="2491920"/>
            <a:ext cx="23796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81880" y="2491920"/>
            <a:ext cx="23796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4000" y="4294440"/>
            <a:ext cx="23796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83120" y="4294440"/>
            <a:ext cx="23796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81880" y="4294440"/>
            <a:ext cx="23796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A3CC4-0D2A-4C4A-A4DF-2D7AA17A13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1412640"/>
            <a:ext cx="7391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4000" y="2491920"/>
            <a:ext cx="73911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59900-7B5D-4F20-91FF-5440AAE34E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1412640"/>
            <a:ext cx="7391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491920"/>
            <a:ext cx="36068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471560" y="2491920"/>
            <a:ext cx="36068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94688-847C-4CFE-B50E-EE17311CE0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1412640"/>
            <a:ext cx="7391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16640-5144-465D-89A8-BA1796F05E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4000" y="1412640"/>
            <a:ext cx="739116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DDA6F-110A-437A-9D6D-130A08E637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1412640"/>
            <a:ext cx="7391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000" y="2491920"/>
            <a:ext cx="36068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71560" y="2491920"/>
            <a:ext cx="36068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4000" y="4294440"/>
            <a:ext cx="36068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5CBB6-9F1F-4B83-8730-543C9183FD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000" y="1412640"/>
            <a:ext cx="7391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000" y="2491920"/>
            <a:ext cx="36068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1560" y="2491920"/>
            <a:ext cx="36068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471560" y="4294440"/>
            <a:ext cx="36068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01708-B224-431F-BD70-1B67692252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000" y="1412640"/>
            <a:ext cx="7391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000" y="2491920"/>
            <a:ext cx="36068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1560" y="2491920"/>
            <a:ext cx="36068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000" y="4294440"/>
            <a:ext cx="73911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E4C8B-F307-4745-9153-AC24D368F5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1412640"/>
            <a:ext cx="7391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73453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491920"/>
            <a:ext cx="73911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3719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73453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53719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73453"/>
                </a:solidFill>
                <a:latin typeface="Verdana"/>
              </a:rPr>
              <a:t>Second Outline Level</a:t>
            </a: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53719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73453"/>
                </a:solidFill>
                <a:latin typeface="Verdana"/>
              </a:rPr>
              <a:t>Third Outline Level</a:t>
            </a: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53719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73453"/>
                </a:solidFill>
                <a:latin typeface="Verdana"/>
              </a:rPr>
              <a:t>Fourth Outline Level</a:t>
            </a: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53719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73453"/>
                </a:solidFill>
                <a:latin typeface="Verdana"/>
              </a:rPr>
              <a:t>Fifth Outline Level</a:t>
            </a: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73453"/>
                </a:solidFill>
                <a:latin typeface="Verdana"/>
              </a:rPr>
              <a:t>Sixth Outline Level</a:t>
            </a: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73453"/>
                </a:solidFill>
                <a:latin typeface="Verdana"/>
              </a:rPr>
              <a:t>Seventh Outline Level</a:t>
            </a: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-360" y="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dddddd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F718-0C38-48E3-BB31-3DBDA38A702A}" type="slidenum">
              <a:rPr b="0" lang="da-DK" sz="1400" spc="-1" strike="noStrike">
                <a:solidFill>
                  <a:srgbClr val="dddddd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4000" y="1412640"/>
            <a:ext cx="7391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73453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4000" y="2491920"/>
            <a:ext cx="73911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3719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73453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53719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73453"/>
                </a:solidFill>
                <a:latin typeface="Verdana"/>
              </a:rPr>
              <a:t>Second Outline Level</a:t>
            </a: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53719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73453"/>
                </a:solidFill>
                <a:latin typeface="Verdana"/>
              </a:rPr>
              <a:t>Third Outline Level</a:t>
            </a: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53719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73453"/>
                </a:solidFill>
                <a:latin typeface="Verdana"/>
              </a:rPr>
              <a:t>Fourth Outline Level</a:t>
            </a: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53719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73453"/>
                </a:solidFill>
                <a:latin typeface="Verdana"/>
              </a:rPr>
              <a:t>Fifth Outline Level</a:t>
            </a: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73453"/>
                </a:solidFill>
                <a:latin typeface="Verdana"/>
              </a:rPr>
              <a:t>Sixth Outline Level</a:t>
            </a: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73453"/>
                </a:solidFill>
                <a:latin typeface="Verdana"/>
              </a:rPr>
              <a:t>Seventh Outline Level</a:t>
            </a: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-360" y="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dddddd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498E-B44C-4E3A-8052-0D379539D1BF}" type="slidenum">
              <a:rPr b="0" lang="da-DK" sz="1400" spc="-1" strike="noStrike">
                <a:solidFill>
                  <a:srgbClr val="dddddd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gcssintranet/search.jsp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2133720"/>
            <a:ext cx="74880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da-DK" sz="3200" spc="-1" strike="noStrike">
                <a:solidFill>
                  <a:srgbClr val="273453"/>
                </a:solidFill>
                <a:latin typeface="Verdana"/>
              </a:rPr>
              <a:t>The LANCHART data format</a:t>
            </a:r>
            <a:br>
              <a:rPr sz="3200"/>
            </a:br>
            <a:r>
              <a:rPr b="1" lang="da-DK" sz="3200" spc="-1" strike="noStrike">
                <a:solidFill>
                  <a:srgbClr val="273453"/>
                </a:solidFill>
                <a:latin typeface="Verdana"/>
              </a:rPr>
              <a:t>and search engine</a:t>
            </a:r>
            <a:endParaRPr b="1" lang="en-US" sz="3200" spc="-1" strike="noStrike">
              <a:solidFill>
                <a:srgbClr val="27345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73198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273453"/>
                </a:solidFill>
                <a:latin typeface="Verdana"/>
              </a:rPr>
              <a:t>Data formats in the LANCHART Project</a:t>
            </a:r>
            <a:endParaRPr b="1" lang="en-US" sz="20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74898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73453"/>
                </a:solidFill>
                <a:latin typeface="Verdana"/>
              </a:rPr>
              <a:t>Recording (digitalization)</a:t>
            </a:r>
            <a:r>
              <a:rPr b="1" lang="en-GB" sz="1800" spc="-1" strike="noStrike">
                <a:solidFill>
                  <a:srgbClr val="273453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273453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273453"/>
                </a:solidFill>
                <a:latin typeface="Verdana"/>
              </a:rPr>
              <a:t>wav-file</a:t>
            </a: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73453"/>
                </a:solidFill>
                <a:latin typeface="Verdana"/>
              </a:rPr>
              <a:t>Transcription: Transcriber</a:t>
            </a:r>
            <a:r>
              <a:rPr b="1" lang="en-GB" sz="1800" spc="-1" strike="noStrike">
                <a:solidFill>
                  <a:srgbClr val="273453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273453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273453"/>
                </a:solidFill>
                <a:latin typeface="Verdana"/>
              </a:rPr>
              <a:t>wav-file &amp; trs-file</a:t>
            </a: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73453"/>
                </a:solidFill>
                <a:latin typeface="Verdana"/>
              </a:rPr>
              <a:t>Analytical coding: Praat</a:t>
            </a:r>
            <a:r>
              <a:rPr b="1" lang="en-GB" sz="1800" spc="-1" strike="noStrike">
                <a:solidFill>
                  <a:srgbClr val="273453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273453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273453"/>
                </a:solidFill>
                <a:latin typeface="Verdana"/>
              </a:rPr>
              <a:t>wav-file &amp; TextGrid</a:t>
            </a: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73453"/>
                </a:solidFill>
                <a:latin typeface="Verdana"/>
              </a:rPr>
              <a:t>Searching &amp; counting:</a:t>
            </a: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73453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273453"/>
                </a:solidFill>
                <a:latin typeface="Verdana"/>
              </a:rPr>
              <a:t>The LANCHART search engine</a:t>
            </a:r>
            <a:r>
              <a:rPr b="1" lang="en-GB" sz="1800" spc="-1" strike="noStrike">
                <a:solidFill>
                  <a:srgbClr val="273453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273453"/>
                </a:solidFill>
                <a:latin typeface="Verdana"/>
              </a:rPr>
              <a:t>MySQL database</a:t>
            </a: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5508720" y="2421000"/>
            <a:ext cx="360360" cy="431640"/>
          </a:xfrm>
          <a:prstGeom prst="downArrow">
            <a:avLst>
              <a:gd name="adj1" fmla="val 50000"/>
              <a:gd name="adj2" fmla="val 29945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6012000" y="2421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ran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5508720" y="3429000"/>
            <a:ext cx="43164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6012000" y="3429000"/>
            <a:ext cx="29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utomatic con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5508720" y="4437000"/>
            <a:ext cx="431640" cy="432000"/>
          </a:xfrm>
          <a:prstGeom prst="downArrow">
            <a:avLst>
              <a:gd name="adj1" fmla="val 50000"/>
              <a:gd name="adj2" fmla="val 25021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6012000" y="44370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utomatic im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3059280" y="4365720"/>
            <a:ext cx="151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534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73453"/>
                </a:solidFill>
                <a:latin typeface="Verdana"/>
              </a:rPr>
              <a:t>Praat TextGrid</a:t>
            </a:r>
            <a:endParaRPr b="1" lang="en-US" sz="2000" spc="-1" strike="noStrike">
              <a:solidFill>
                <a:srgbClr val="273453"/>
              </a:solidFill>
              <a:latin typeface="Verdana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503280" y="1125360"/>
            <a:ext cx="78850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38"/>
          <p:cNvSpPr/>
          <p:nvPr/>
        </p:nvSpPr>
        <p:spPr>
          <a:xfrm>
            <a:off x="7524720" y="3811680"/>
            <a:ext cx="8636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7"/>
          <p:cNvSpPr/>
          <p:nvPr/>
        </p:nvSpPr>
        <p:spPr>
          <a:xfrm>
            <a:off x="7729560" y="2952720"/>
            <a:ext cx="863640" cy="3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6440040" y="3763800"/>
            <a:ext cx="20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 Unicode MS"/>
              </a:rPr>
              <a:t>events (AM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6386760" y="2900520"/>
            <a:ext cx="23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 Unicode MS"/>
              </a:rPr>
              <a:t>ortografi (AM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000" y="1412640"/>
            <a:ext cx="73911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273453"/>
                </a:solidFill>
                <a:latin typeface="Verdana"/>
              </a:rPr>
              <a:t>The Praat TextGrid</a:t>
            </a:r>
            <a:endParaRPr b="1" lang="en-US" sz="20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2050920" y="2852640"/>
            <a:ext cx="43927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969696"/>
                </a:solidFill>
                <a:latin typeface="Times New Roman"/>
              </a:rPr>
              <a:t>hej             med             dig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2050920" y="3716280"/>
            <a:ext cx="43927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969696"/>
                </a:solidFill>
                <a:latin typeface="Times New Roman"/>
              </a:rPr>
              <a:t>                                                     </a:t>
            </a:r>
            <a:r>
              <a:rPr b="0" lang="da-DK" sz="2000" spc="-1" strike="noStrike">
                <a:solidFill>
                  <a:srgbClr val="969696"/>
                </a:solidFill>
                <a:latin typeface="Times New Roman"/>
              </a:rPr>
              <a:t>h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3132000" y="2781360"/>
            <a:ext cx="0" cy="71892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4500720" y="2781360"/>
            <a:ext cx="0" cy="71892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1"/>
          <p:cNvSpPr/>
          <p:nvPr/>
        </p:nvSpPr>
        <p:spPr>
          <a:xfrm>
            <a:off x="5435640" y="2781360"/>
            <a:ext cx="0" cy="71892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5435640" y="3645000"/>
            <a:ext cx="0" cy="71892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14"/>
          <p:cNvSpPr/>
          <p:nvPr/>
        </p:nvSpPr>
        <p:spPr>
          <a:xfrm>
            <a:off x="900000" y="2852640"/>
            <a:ext cx="360360" cy="1440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180720" y="3139920"/>
            <a:ext cx="89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tier-</a:t>
            </a:r>
            <a:br>
              <a:rPr sz="2400"/>
            </a:b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6"/>
          <p:cNvSpPr/>
          <p:nvPr/>
        </p:nvSpPr>
        <p:spPr>
          <a:xfrm>
            <a:off x="2050920" y="4581360"/>
            <a:ext cx="43927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6415920" y="4629240"/>
            <a:ext cx="22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 Unicode MS"/>
              </a:rPr>
              <a:t>ortografi (XJ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2050920" y="5445000"/>
            <a:ext cx="43927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9"/>
          <p:cNvSpPr/>
          <p:nvPr/>
        </p:nvSpPr>
        <p:spPr>
          <a:xfrm>
            <a:off x="6469200" y="54928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 Unicode MS"/>
              </a:rPr>
              <a:t>events (XJ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24"/>
          <p:cNvSpPr/>
          <p:nvPr/>
        </p:nvSpPr>
        <p:spPr>
          <a:xfrm>
            <a:off x="3851280" y="4508640"/>
            <a:ext cx="0" cy="71892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5"/>
          <p:cNvSpPr/>
          <p:nvPr/>
        </p:nvSpPr>
        <p:spPr>
          <a:xfrm>
            <a:off x="5429160" y="4500720"/>
            <a:ext cx="0" cy="71892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6"/>
          <p:cNvSpPr/>
          <p:nvPr/>
        </p:nvSpPr>
        <p:spPr>
          <a:xfrm>
            <a:off x="3974400" y="464976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969696"/>
                </a:solidFill>
                <a:latin typeface="Times New Roman"/>
              </a:rPr>
              <a:t>      </a:t>
            </a:r>
            <a:r>
              <a:rPr b="0" lang="da-DK" sz="2000" spc="-1" strike="noStrike">
                <a:solidFill>
                  <a:srgbClr val="969696"/>
                </a:solidFill>
                <a:latin typeface="Times New Roman"/>
              </a:rPr>
              <a:t>hej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27"/>
          <p:cNvSpPr/>
          <p:nvPr/>
        </p:nvSpPr>
        <p:spPr>
          <a:xfrm>
            <a:off x="1476360" y="4581360"/>
            <a:ext cx="360360" cy="1440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8"/>
          <p:cNvSpPr/>
          <p:nvPr/>
        </p:nvSpPr>
        <p:spPr>
          <a:xfrm>
            <a:off x="178920" y="501336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tier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29"/>
          <p:cNvSpPr/>
          <p:nvPr/>
        </p:nvSpPr>
        <p:spPr>
          <a:xfrm rot="5400000">
            <a:off x="8028000" y="2421000"/>
            <a:ext cx="288720" cy="720720"/>
          </a:xfrm>
          <a:custGeom>
            <a:avLst/>
            <a:gdLst>
              <a:gd name="textAreaLeft" fmla="*/ 184680 w 288720"/>
              <a:gd name="textAreaRight" fmla="*/ 289080 w 28872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30"/>
          <p:cNvSpPr/>
          <p:nvPr/>
        </p:nvSpPr>
        <p:spPr>
          <a:xfrm>
            <a:off x="7659720" y="1773360"/>
            <a:ext cx="148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particip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31"/>
          <p:cNvSpPr/>
          <p:nvPr/>
        </p:nvSpPr>
        <p:spPr>
          <a:xfrm>
            <a:off x="1692360" y="2852640"/>
            <a:ext cx="287280" cy="576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2"/>
          <p:cNvSpPr/>
          <p:nvPr/>
        </p:nvSpPr>
        <p:spPr>
          <a:xfrm>
            <a:off x="1116000" y="285264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33"/>
          <p:cNvSpPr/>
          <p:nvPr/>
        </p:nvSpPr>
        <p:spPr>
          <a:xfrm>
            <a:off x="1692360" y="3716280"/>
            <a:ext cx="287280" cy="576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4"/>
          <p:cNvSpPr/>
          <p:nvPr/>
        </p:nvSpPr>
        <p:spPr>
          <a:xfrm>
            <a:off x="1116000" y="371628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35"/>
          <p:cNvSpPr/>
          <p:nvPr/>
        </p:nvSpPr>
        <p:spPr>
          <a:xfrm rot="5400000">
            <a:off x="6983640" y="2240640"/>
            <a:ext cx="288720" cy="1081080"/>
          </a:xfrm>
          <a:custGeom>
            <a:avLst/>
            <a:gdLst>
              <a:gd name="textAreaLeft" fmla="*/ 184680 w 288720"/>
              <a:gd name="textAreaRight" fmla="*/ 289080 w 28872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6"/>
          <p:cNvSpPr/>
          <p:nvPr/>
        </p:nvSpPr>
        <p:spPr>
          <a:xfrm>
            <a:off x="6442560" y="213372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tier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6"/>
          <p:cNvSpPr/>
          <p:nvPr/>
        </p:nvSpPr>
        <p:spPr>
          <a:xfrm>
            <a:off x="6550200" y="333216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 Unicode MS"/>
              </a:rPr>
              <a:t>grammatik (AM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6550200" y="2468520"/>
            <a:ext cx="23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 Unicode MS"/>
              </a:rPr>
              <a:t>ortografi (AM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000" y="1412640"/>
            <a:ext cx="73911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273453"/>
                </a:solidFill>
                <a:latin typeface="Verdana"/>
              </a:rPr>
              <a:t>What a basic search engine does</a:t>
            </a:r>
            <a:endParaRPr b="1" lang="en-US" sz="20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55640" y="2421000"/>
            <a:ext cx="585144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969696"/>
                </a:solidFill>
                <a:latin typeface="Times New Roman"/>
              </a:rPr>
              <a:t>sådan   noget     man     kan  når   det   er    ens    farm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736560" y="3284640"/>
            <a:ext cx="5851440" cy="57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1476360" y="2349360"/>
            <a:ext cx="0" cy="71928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1"/>
          <p:cNvSpPr/>
          <p:nvPr/>
        </p:nvSpPr>
        <p:spPr>
          <a:xfrm>
            <a:off x="4572000" y="2349360"/>
            <a:ext cx="0" cy="71928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2"/>
          <p:cNvSpPr/>
          <p:nvPr/>
        </p:nvSpPr>
        <p:spPr>
          <a:xfrm>
            <a:off x="5651640" y="2349360"/>
            <a:ext cx="0" cy="71928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3"/>
          <p:cNvSpPr/>
          <p:nvPr/>
        </p:nvSpPr>
        <p:spPr>
          <a:xfrm>
            <a:off x="5651640" y="3213000"/>
            <a:ext cx="0" cy="71928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8"/>
          <p:cNvSpPr/>
          <p:nvPr/>
        </p:nvSpPr>
        <p:spPr>
          <a:xfrm>
            <a:off x="2195640" y="2349360"/>
            <a:ext cx="0" cy="71928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19"/>
          <p:cNvSpPr/>
          <p:nvPr/>
        </p:nvSpPr>
        <p:spPr>
          <a:xfrm>
            <a:off x="3132000" y="2349360"/>
            <a:ext cx="0" cy="71928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3564000" y="2349360"/>
            <a:ext cx="0" cy="71928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4140360" y="2349360"/>
            <a:ext cx="0" cy="71928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5003640" y="2349360"/>
            <a:ext cx="0" cy="71928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3"/>
          <p:cNvSpPr/>
          <p:nvPr/>
        </p:nvSpPr>
        <p:spPr>
          <a:xfrm>
            <a:off x="2195640" y="3284640"/>
            <a:ext cx="93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969696"/>
                </a:solidFill>
                <a:latin typeface="Times New Roman"/>
              </a:rPr>
              <a:t>G AS DS SB R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2195640" y="3213000"/>
            <a:ext cx="0" cy="71928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25"/>
          <p:cNvSpPr/>
          <p:nvPr/>
        </p:nvSpPr>
        <p:spPr>
          <a:xfrm>
            <a:off x="3132000" y="3213000"/>
            <a:ext cx="0" cy="71928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26"/>
          <p:cNvSpPr/>
          <p:nvPr/>
        </p:nvSpPr>
        <p:spPr>
          <a:xfrm>
            <a:off x="5003640" y="3213000"/>
            <a:ext cx="0" cy="71928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5003640" y="3284640"/>
            <a:ext cx="64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5003640" y="342900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969696"/>
                </a:solidFill>
                <a:latin typeface="Times New Roman"/>
              </a:rPr>
              <a:t>R 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9"/>
          <p:cNvSpPr/>
          <p:nvPr/>
        </p:nvSpPr>
        <p:spPr>
          <a:xfrm>
            <a:off x="-720720" y="2205000"/>
            <a:ext cx="720720" cy="1943280"/>
          </a:xfrm>
          <a:prstGeom prst="rect">
            <a:avLst/>
          </a:prstGeom>
          <a:solidFill>
            <a:srgbClr val="ffcc99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2195640" y="4076640"/>
            <a:ext cx="0" cy="1728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003640" y="4076640"/>
            <a:ext cx="0" cy="1728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2"/>
          <p:cNvSpPr/>
          <p:nvPr/>
        </p:nvSpPr>
        <p:spPr>
          <a:xfrm>
            <a:off x="2195640" y="2276640"/>
            <a:ext cx="936360" cy="17287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3"/>
          <p:cNvSpPr/>
          <p:nvPr/>
        </p:nvSpPr>
        <p:spPr>
          <a:xfrm>
            <a:off x="5003640" y="2276640"/>
            <a:ext cx="649440" cy="17287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41 0.00533 L 0.95677 0.00533 E">
                                      <p:cBhvr>
                                        <p:cTn id="60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3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4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4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9"/>
          <p:cNvSpPr/>
          <p:nvPr/>
        </p:nvSpPr>
        <p:spPr>
          <a:xfrm>
            <a:off x="6550200" y="367020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 Unicode MS"/>
              </a:rPr>
              <a:t>grammatik (AM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40"/>
          <p:cNvSpPr/>
          <p:nvPr/>
        </p:nvSpPr>
        <p:spPr>
          <a:xfrm>
            <a:off x="6550200" y="2806560"/>
            <a:ext cx="23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 Unicode MS"/>
              </a:rPr>
              <a:t>ortografi (AM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735120" y="2760840"/>
            <a:ext cx="5924520" cy="57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969696"/>
                </a:solidFill>
                <a:latin typeface="Times New Roman"/>
              </a:rPr>
              <a:t>kunne    du     ligge  og  dø  hvor  ingen  opdagede  d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4"/>
          <p:cNvSpPr/>
          <p:nvPr/>
        </p:nvSpPr>
        <p:spPr>
          <a:xfrm>
            <a:off x="735120" y="4489560"/>
            <a:ext cx="5924520" cy="57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2"/>
          <p:cNvSpPr/>
          <p:nvPr/>
        </p:nvSpPr>
        <p:spPr>
          <a:xfrm>
            <a:off x="3649680" y="2616120"/>
            <a:ext cx="2917800" cy="26132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000" y="1412640"/>
            <a:ext cx="73911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273453"/>
                </a:solidFill>
                <a:latin typeface="Verdana"/>
              </a:rPr>
              <a:t>The job for the LANCHART search engine</a:t>
            </a:r>
            <a:endParaRPr b="1" lang="en-US" sz="20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716040" y="3624120"/>
            <a:ext cx="594360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1577880" y="2689200"/>
            <a:ext cx="0" cy="71928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7"/>
          <p:cNvSpPr/>
          <p:nvPr/>
        </p:nvSpPr>
        <p:spPr>
          <a:xfrm>
            <a:off x="4264200" y="2689200"/>
            <a:ext cx="0" cy="71928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8"/>
          <p:cNvSpPr/>
          <p:nvPr/>
        </p:nvSpPr>
        <p:spPr>
          <a:xfrm>
            <a:off x="6064200" y="2689200"/>
            <a:ext cx="0" cy="71928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9"/>
          <p:cNvSpPr/>
          <p:nvPr/>
        </p:nvSpPr>
        <p:spPr>
          <a:xfrm>
            <a:off x="6567480" y="4438800"/>
            <a:ext cx="0" cy="71892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2247840" y="2689200"/>
            <a:ext cx="0" cy="71928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1"/>
          <p:cNvSpPr/>
          <p:nvPr/>
        </p:nvSpPr>
        <p:spPr>
          <a:xfrm>
            <a:off x="2895480" y="2689200"/>
            <a:ext cx="0" cy="71928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12"/>
          <p:cNvSpPr/>
          <p:nvPr/>
        </p:nvSpPr>
        <p:spPr>
          <a:xfrm>
            <a:off x="3294000" y="2689200"/>
            <a:ext cx="0" cy="71928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13"/>
          <p:cNvSpPr/>
          <p:nvPr/>
        </p:nvSpPr>
        <p:spPr>
          <a:xfrm>
            <a:off x="3652920" y="2689200"/>
            <a:ext cx="0" cy="71928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14"/>
          <p:cNvSpPr/>
          <p:nvPr/>
        </p:nvSpPr>
        <p:spPr>
          <a:xfrm>
            <a:off x="4950000" y="2689200"/>
            <a:ext cx="0" cy="71928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5"/>
          <p:cNvSpPr/>
          <p:nvPr/>
        </p:nvSpPr>
        <p:spPr>
          <a:xfrm>
            <a:off x="1522440" y="3624120"/>
            <a:ext cx="79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b7604"/>
                </a:solidFill>
                <a:latin typeface="Times New Roman"/>
              </a:rPr>
              <a:t>G AS DS SA R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6"/>
          <p:cNvSpPr/>
          <p:nvPr/>
        </p:nvSpPr>
        <p:spPr>
          <a:xfrm>
            <a:off x="1585800" y="3552840"/>
            <a:ext cx="0" cy="71928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7"/>
          <p:cNvSpPr/>
          <p:nvPr/>
        </p:nvSpPr>
        <p:spPr>
          <a:xfrm>
            <a:off x="2247840" y="3552840"/>
            <a:ext cx="0" cy="71928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8"/>
          <p:cNvSpPr/>
          <p:nvPr/>
        </p:nvSpPr>
        <p:spPr>
          <a:xfrm>
            <a:off x="3662280" y="4438800"/>
            <a:ext cx="0" cy="71892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0"/>
          <p:cNvSpPr/>
          <p:nvPr/>
        </p:nvSpPr>
        <p:spPr>
          <a:xfrm>
            <a:off x="3687840" y="460548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969696"/>
                </a:solidFill>
                <a:latin typeface="Times New Roman"/>
              </a:rPr>
              <a:t>L FAO 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21"/>
          <p:cNvSpPr/>
          <p:nvPr/>
        </p:nvSpPr>
        <p:spPr>
          <a:xfrm>
            <a:off x="1585800" y="2616120"/>
            <a:ext cx="649440" cy="17287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26"/>
          <p:cNvSpPr/>
          <p:nvPr/>
        </p:nvSpPr>
        <p:spPr>
          <a:xfrm>
            <a:off x="6567480" y="2689200"/>
            <a:ext cx="0" cy="71928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7"/>
          <p:cNvSpPr/>
          <p:nvPr/>
        </p:nvSpPr>
        <p:spPr>
          <a:xfrm>
            <a:off x="1434960" y="184464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8"/>
          <p:cNvSpPr/>
          <p:nvPr/>
        </p:nvSpPr>
        <p:spPr>
          <a:xfrm>
            <a:off x="3777840" y="184464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overlapping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1"/>
          <p:cNvSpPr/>
          <p:nvPr/>
        </p:nvSpPr>
        <p:spPr>
          <a:xfrm>
            <a:off x="755640" y="5372280"/>
            <a:ext cx="5904000" cy="57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32"/>
          <p:cNvSpPr/>
          <p:nvPr/>
        </p:nvSpPr>
        <p:spPr>
          <a:xfrm>
            <a:off x="2268360" y="5300640"/>
            <a:ext cx="0" cy="71928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33"/>
          <p:cNvSpPr/>
          <p:nvPr/>
        </p:nvSpPr>
        <p:spPr>
          <a:xfrm>
            <a:off x="4970520" y="5300640"/>
            <a:ext cx="0" cy="71928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4"/>
          <p:cNvSpPr/>
          <p:nvPr/>
        </p:nvSpPr>
        <p:spPr>
          <a:xfrm>
            <a:off x="3400920" y="544356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969696"/>
                </a:solidFill>
                <a:latin typeface="Times New Roman"/>
              </a:rPr>
              <a:t>Gg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35"/>
          <p:cNvSpPr/>
          <p:nvPr/>
        </p:nvSpPr>
        <p:spPr>
          <a:xfrm rot="5400000">
            <a:off x="1728720" y="2095560"/>
            <a:ext cx="358560" cy="720720"/>
          </a:xfrm>
          <a:custGeom>
            <a:avLst/>
            <a:gdLst>
              <a:gd name="textAreaLeft" fmla="*/ 228960 w 358560"/>
              <a:gd name="textAreaRight" fmla="*/ 358560 w 3585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26"/>
                </a:lnTo>
                <a:cubicBezTo>
                  <a:pt x="10800" y="9926"/>
                  <a:pt x="5400" y="10826"/>
                  <a:pt x="0" y="10826"/>
                </a:cubicBezTo>
                <a:cubicBezTo>
                  <a:pt x="5400" y="10826"/>
                  <a:pt x="10800" y="11726"/>
                  <a:pt x="10800" y="1262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36"/>
          <p:cNvSpPr/>
          <p:nvPr/>
        </p:nvSpPr>
        <p:spPr>
          <a:xfrm rot="5400000">
            <a:off x="4932360" y="979200"/>
            <a:ext cx="358560" cy="2952720"/>
          </a:xfrm>
          <a:custGeom>
            <a:avLst/>
            <a:gdLst>
              <a:gd name="textAreaLeft" fmla="*/ 228960 w 358560"/>
              <a:gd name="textAreaRight" fmla="*/ 358560 w 358560"/>
              <a:gd name="textAreaTop" fmla="*/ 33480 h 2952720"/>
              <a:gd name="textAreaBottom" fmla="*/ 29192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95"/>
                  <a:pt x="10800" y="789"/>
                </a:cubicBezTo>
                <a:lnTo>
                  <a:pt x="10800" y="10037"/>
                </a:lnTo>
                <a:cubicBezTo>
                  <a:pt x="10800" y="10432"/>
                  <a:pt x="5400" y="10826"/>
                  <a:pt x="0" y="10826"/>
                </a:cubicBezTo>
                <a:cubicBezTo>
                  <a:pt x="5400" y="10826"/>
                  <a:pt x="10800" y="11221"/>
                  <a:pt x="10800" y="11615"/>
                </a:cubicBezTo>
                <a:lnTo>
                  <a:pt x="10800" y="20811"/>
                </a:lnTo>
                <a:cubicBezTo>
                  <a:pt x="10800" y="2120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3"/>
          <p:cNvSpPr/>
          <p:nvPr/>
        </p:nvSpPr>
        <p:spPr>
          <a:xfrm>
            <a:off x="6577560" y="453564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 Unicode MS"/>
              </a:rPr>
              <a:t>ordstil (AM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7"/>
          <p:cNvSpPr/>
          <p:nvPr/>
        </p:nvSpPr>
        <p:spPr>
          <a:xfrm>
            <a:off x="6555240" y="54198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 Unicode MS"/>
              </a:rPr>
              <a:t>gen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8"/>
          <p:cNvSpPr/>
          <p:nvPr/>
        </p:nvSpPr>
        <p:spPr>
          <a:xfrm>
            <a:off x="249840" y="5300640"/>
            <a:ext cx="1800720" cy="459720"/>
          </a:xfrm>
          <a:prstGeom prst="rect">
            <a:avLst/>
          </a:prstGeom>
          <a:solidFill>
            <a:srgbClr val="ddddd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Common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3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000" y="1412640"/>
            <a:ext cx="73911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273453"/>
                </a:solidFill>
                <a:latin typeface="Verdana"/>
              </a:rPr>
              <a:t>The LANCHART search engine</a:t>
            </a:r>
            <a:endParaRPr b="1" lang="en-US" sz="20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4000" y="2491920"/>
            <a:ext cx="7391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3719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73453"/>
                </a:solidFill>
                <a:latin typeface="Verdana"/>
              </a:rPr>
              <a:t>A WebService</a:t>
            </a:r>
            <a:endParaRPr b="1" lang="en-US" sz="2000" spc="-1" strike="noStrike">
              <a:solidFill>
                <a:srgbClr val="273453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3719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73453"/>
                </a:solidFill>
                <a:latin typeface="Verdana"/>
              </a:rPr>
              <a:t>JSP / Servlets + front-end JavaScript</a:t>
            </a:r>
            <a:endParaRPr b="1" lang="en-US" sz="2000" spc="-1" strike="noStrike">
              <a:solidFill>
                <a:srgbClr val="273453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 u="sng">
                <a:solidFill>
                  <a:srgbClr val="4d4d4d"/>
                </a:solidFill>
                <a:uFillTx/>
                <a:latin typeface="Verdana"/>
                <a:hlinkClick r:id="rId1"/>
              </a:rPr>
              <a:t>http://dgcssintranet/search.jsp</a:t>
            </a:r>
            <a:br>
              <a:rPr sz="2000"/>
            </a:br>
            <a:endParaRPr b="1" lang="en-US" sz="2000" spc="-1" strike="noStrike">
              <a:solidFill>
                <a:srgbClr val="273453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3719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73453"/>
                </a:solidFill>
                <a:latin typeface="Verdana"/>
              </a:rPr>
              <a:t>A Database Engine, MySQL</a:t>
            </a:r>
            <a:endParaRPr b="1" lang="en-US" sz="2000" spc="-1" strike="noStrike">
              <a:solidFill>
                <a:srgbClr val="273453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73453"/>
                </a:solidFill>
                <a:latin typeface="Verdana"/>
              </a:rPr>
              <a:t>Search engine:</a:t>
            </a:r>
            <a:endParaRPr b="1" lang="en-US" sz="2000" spc="-1" strike="noStrike">
              <a:solidFill>
                <a:srgbClr val="273453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3719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73453"/>
                </a:solidFill>
                <a:latin typeface="Verdana"/>
              </a:rPr>
              <a:t>Highly normalized to eliminate redundancy </a:t>
            </a:r>
            <a:endParaRPr b="1" lang="en-US" sz="2000" spc="-1" strike="noStrike">
              <a:solidFill>
                <a:srgbClr val="273453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3719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73453"/>
                </a:solidFill>
                <a:latin typeface="Verdana"/>
              </a:rPr>
              <a:t>Updated every night from Korpus</a:t>
            </a:r>
            <a:endParaRPr b="1" lang="en-US" sz="2000" spc="-1" strike="noStrike">
              <a:solidFill>
                <a:srgbClr val="273453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4479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4000" y="1412640"/>
            <a:ext cx="73911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273453"/>
                </a:solidFill>
                <a:latin typeface="Verdana"/>
              </a:rPr>
              <a:t>Support for multiple transcription &amp; analysis formats</a:t>
            </a:r>
            <a:endParaRPr b="1" lang="en-US" sz="20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4000" y="4220640"/>
            <a:ext cx="7391160" cy="17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53719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273453"/>
                </a:solidFill>
                <a:latin typeface="Verdana"/>
              </a:rPr>
              <a:t>Conversions are done using a XML-based `super’- format, so that new formats can be added by creating conversion programmes </a:t>
            </a:r>
            <a:endParaRPr b="1" lang="en-US" sz="1600" spc="-1" strike="noStrike">
              <a:solidFill>
                <a:srgbClr val="273453"/>
              </a:solidFill>
              <a:latin typeface="Verdana"/>
            </a:endParaRPr>
          </a:p>
        </p:txBody>
      </p:sp>
      <p:pic>
        <p:nvPicPr>
          <p:cNvPr id="191" name="Picture 7" descr="import"/>
          <p:cNvPicPr/>
          <p:nvPr/>
        </p:nvPicPr>
        <p:blipFill>
          <a:blip r:embed="rId1"/>
          <a:stretch/>
        </p:blipFill>
        <p:spPr>
          <a:xfrm>
            <a:off x="684360" y="2276640"/>
            <a:ext cx="2714400" cy="1809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export"/>
          <p:cNvPicPr/>
          <p:nvPr/>
        </p:nvPicPr>
        <p:blipFill>
          <a:blip r:embed="rId2"/>
          <a:stretch/>
        </p:blipFill>
        <p:spPr>
          <a:xfrm>
            <a:off x="5219640" y="2276640"/>
            <a:ext cx="273384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000" y="1412640"/>
            <a:ext cx="73911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73453"/>
                </a:solidFill>
                <a:latin typeface="Verdana"/>
              </a:rPr>
              <a:t>Support for multiple transcription &amp; analysis formats</a:t>
            </a:r>
            <a:endParaRPr b="1" lang="en-US" sz="20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4000" y="4723920"/>
            <a:ext cx="73911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53719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73453"/>
                </a:solidFill>
                <a:latin typeface="Verdana"/>
              </a:rPr>
              <a:t>’</a:t>
            </a:r>
            <a:r>
              <a:rPr b="1" lang="en-GB" sz="1800" spc="-1" strike="noStrike">
                <a:solidFill>
                  <a:srgbClr val="273453"/>
                </a:solidFill>
                <a:latin typeface="Verdana"/>
              </a:rPr>
              <a:t>Superformat’ is XML-based allowing for XSL Transformations for conversion</a:t>
            </a: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53719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73453"/>
                </a:solidFill>
                <a:latin typeface="Verdana"/>
              </a:rPr>
              <a:t>Programmed in Java for portability</a:t>
            </a:r>
            <a:endParaRPr b="1" lang="en-US" sz="1800" spc="-1" strike="noStrike">
              <a:solidFill>
                <a:srgbClr val="273453"/>
              </a:solidFill>
              <a:latin typeface="Verdana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3971880" y="3141720"/>
            <a:ext cx="64764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Super</a:t>
            </a:r>
            <a:br>
              <a:rPr sz="1600"/>
            </a:b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3684960" y="2349360"/>
            <a:ext cx="122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CLAN/.C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1697400" y="3262320"/>
            <a:ext cx="144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Praat/.Text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5514840" y="3262320"/>
            <a:ext cx="14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Transcriber/.t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3640680" y="4221000"/>
            <a:ext cx="131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Other forma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AutoShape 9"/>
          <p:cNvCxnSpPr>
            <a:stCxn id="197" idx="3"/>
            <a:endCxn id="195" idx="1"/>
          </p:cNvCxnSpPr>
          <p:nvPr/>
        </p:nvCxnSpPr>
        <p:spPr>
          <a:xfrm>
            <a:off x="3149640" y="3430080"/>
            <a:ext cx="822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1" name="AutoShape 10"/>
          <p:cNvCxnSpPr>
            <a:stCxn id="196" idx="2"/>
            <a:endCxn id="195" idx="0"/>
          </p:cNvCxnSpPr>
          <p:nvPr/>
        </p:nvCxnSpPr>
        <p:spPr>
          <a:xfrm flipH="1">
            <a:off x="4295520" y="2685960"/>
            <a:ext cx="2160" cy="45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2" name="AutoShape 11"/>
          <p:cNvCxnSpPr>
            <a:stCxn id="198" idx="1"/>
            <a:endCxn id="195" idx="3"/>
          </p:cNvCxnSpPr>
          <p:nvPr/>
        </p:nvCxnSpPr>
        <p:spPr>
          <a:xfrm flipH="1">
            <a:off x="4619160" y="3430080"/>
            <a:ext cx="889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3" name="AutoShape 12"/>
          <p:cNvCxnSpPr>
            <a:stCxn id="195" idx="2"/>
            <a:endCxn id="199" idx="0"/>
          </p:cNvCxnSpPr>
          <p:nvPr/>
        </p:nvCxnSpPr>
        <p:spPr>
          <a:xfrm>
            <a:off x="4295880" y="3717720"/>
            <a:ext cx="2160" cy="50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3:43:52Z</dcterms:created>
  <dc:creator>Peter Lind</dc:creator>
  <dc:description/>
  <dc:language>en-US</dc:language>
  <cp:lastModifiedBy>OEM</cp:lastModifiedBy>
  <dcterms:modified xsi:type="dcterms:W3CDTF">2008-11-26T10:25:02Z</dcterms:modified>
  <cp:revision>39</cp:revision>
  <dc:subject/>
  <dc:title>Søgemaskinen</dc:title>
</cp:coreProperties>
</file>